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7.png" ContentType="image/png"/>
  <Override PartName="/ppt/media/TYPE.WAV" ContentType="audio/x-wav"/>
  <Override PartName="/ppt/media/image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0.png" ContentType="image/png"/>
  <Override PartName="/ppt/media/image2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28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39.png" ContentType="image/png"/>
  <Override PartName="/ppt/media/image9.png" ContentType="image/png"/>
  <Override PartName="/ppt/media/DRIVEBY.WAV" ContentType="audio/x-wav"/>
  <Override PartName="/ppt/media/image33.png" ContentType="image/png"/>
  <Override PartName="/ppt/media/image3.png" ContentType="image/png"/>
  <Override PartName="/ppt/media/image26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  <p:sldId id="354" r:id="rId108"/>
    <p:sldId id="355" r:id="rId109"/>
    <p:sldId id="356" r:id="rId110"/>
    <p:sldId id="357" r:id="rId111"/>
    <p:sldId id="358" r:id="rId112"/>
    <p:sldId id="359" r:id="rId113"/>
    <p:sldId id="360" r:id="rId114"/>
    <p:sldId id="361" r:id="rId115"/>
    <p:sldId id="362" r:id="rId116"/>
    <p:sldId id="363" r:id="rId117"/>
    <p:sldId id="364" r:id="rId118"/>
    <p:sldId id="365" r:id="rId119"/>
    <p:sldId id="366" r:id="rId120"/>
    <p:sldId id="367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slide" Target="slides/slide99.xml"/><Relationship Id="rId109" Type="http://schemas.openxmlformats.org/officeDocument/2006/relationships/slide" Target="slides/slide100.xml"/><Relationship Id="rId110" Type="http://schemas.openxmlformats.org/officeDocument/2006/relationships/slide" Target="slides/slide101.xml"/><Relationship Id="rId111" Type="http://schemas.openxmlformats.org/officeDocument/2006/relationships/slide" Target="slides/slide102.xml"/><Relationship Id="rId112" Type="http://schemas.openxmlformats.org/officeDocument/2006/relationships/slide" Target="slides/slide103.xml"/><Relationship Id="rId113" Type="http://schemas.openxmlformats.org/officeDocument/2006/relationships/slide" Target="slides/slide104.xml"/><Relationship Id="rId114" Type="http://schemas.openxmlformats.org/officeDocument/2006/relationships/slide" Target="slides/slide105.xml"/><Relationship Id="rId115" Type="http://schemas.openxmlformats.org/officeDocument/2006/relationships/slide" Target="slides/slide106.xml"/><Relationship Id="rId116" Type="http://schemas.openxmlformats.org/officeDocument/2006/relationships/slide" Target="slides/slide107.xml"/><Relationship Id="rId117" Type="http://schemas.openxmlformats.org/officeDocument/2006/relationships/slide" Target="slides/slide108.xml"/><Relationship Id="rId118" Type="http://schemas.openxmlformats.org/officeDocument/2006/relationships/slide" Target="slides/slide109.xml"/><Relationship Id="rId119" Type="http://schemas.openxmlformats.org/officeDocument/2006/relationships/slide" Target="slides/slide110.xml"/><Relationship Id="rId120" Type="http://schemas.openxmlformats.org/officeDocument/2006/relationships/slide" Target="slides/slide111.xml"/><Relationship Id="rId121" Type="http://schemas.openxmlformats.org/officeDocument/2006/relationships/slide" Target="slides/slide112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FD4D-40F5-4901-A969-8F5E09C87F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FEC2-4B0C-4B7E-8861-F9A5638D00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2414-4593-41A4-9ADC-6E0FF04643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7E5B-2CDE-40FA-BE95-2A65307F18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47EE-5EA9-4634-BC0A-C770F05B30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9471-290A-48AC-A5BC-6727C6F385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BBC5-FD37-46FF-BF54-A82EF12B44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5D58-5667-4E88-8BCB-2224394E0D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3813-1E28-4910-9453-B4E827D777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75F6-27C9-4820-A4E1-B2EF6799F1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74A0-EC93-48BB-925E-1A953B3874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B000-E2F7-4E64-A0AF-075F40E501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2326-00C9-41D3-B1A2-FF0DAD53F1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BB69-CDAB-42F1-AE65-CC5D509301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5EB6-A0D5-4B43-9BD4-25FD64E32B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56A9-D8F5-48EA-9A91-07AFF016CD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400A-2D0A-4120-ABD5-DC4A073BB0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2645-F584-4016-B986-7B9573D661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056D-1B0F-429A-AC2D-1956423F71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C1FF-687A-4FDE-9C6E-4D7A607737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C2A4-3F01-48AF-89CB-1DB0584DAC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A1CD-2E68-4D03-9984-FFEB8DD0E3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B80F-8CCC-4D3A-9A29-32505BAFA5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66EA-D342-4223-8EEA-3D2B057793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16A9-B4E5-447E-BF53-D74E5D9C71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8645-54A6-4772-9470-6B2BDC1543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92E-C69F-4FB8-A865-E230125EBA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48B1-A85E-4B67-898D-38B9A8AB81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87DC-46E2-484A-B5F5-7C8294872A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9C5F-AAA9-4EAE-8E76-4995EB7EBD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92C4-0BF8-42D8-A35A-526B83B268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47E5-EB2B-4570-B06A-E3F1E9C083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DF08-DB22-464A-84C6-19789FD8E1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0C7-6635-4D3A-B78D-D7403E0B59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4774-1EE3-4151-B082-5C206D89C8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5277-1ACA-40FF-8A32-D7BCBED3FC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E6F4-7BCA-47AE-8353-0FF3C0943B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C85E-1354-4261-9CE5-FD9A3D2A5E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E55B-97D8-413C-96FD-981DCEA941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C44A-7C85-4D5D-AC67-3AB462768A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5708-41CC-4605-BCF4-49AA473A8C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67A8-6B1A-48FF-A134-416D3C3026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A494-FF15-47D1-9A5C-A87D1324F5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8C99-221D-4193-9724-259FCF0B95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88E9-5752-436A-90FB-54B77BBD46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521E-B17C-4A99-840B-1097675B6F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09FB-321A-4BDB-B5C0-C43F521B76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0B02-80A8-4DCA-9FF3-99057E900B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49E-CF64-4013-802B-EC705869BA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E8BE-7DD2-4889-B663-89B99A76FD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96FA-C70F-4A41-A67A-FC438BBBAC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8C5-3D35-4E69-9932-E66384140B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0AE-EAA6-4492-A055-BD968E70F5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2C9D-AE33-4CF3-919A-13EA2FB930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F28F-EC2B-4D6C-A84C-E687AF4EFF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DD7D-8F23-44CF-B110-2D98C1840A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E01B-8148-4978-8852-A8E35A6B0E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290A-FB77-4BA8-9776-C83FE10C69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2F02-8B48-4CCF-9A12-C67391F10D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366B-79C2-4228-AFD6-14786FF1A4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E58-5101-4CA1-B78A-6DAD311022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E79A-46BB-45FD-ADF3-CC6E9D9323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C0E8-7B27-4025-8B05-969F1A8601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A95F-6347-4C3C-8366-1A86BE335C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A12-C211-4A03-ABDC-79E026D48E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84EF-3633-4C00-959D-94A5B64A22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8DA4-B73A-4383-9289-3FC3A4D8A1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F956-B375-40FA-9B4F-04EBA78FF3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1677-B5EC-43C5-9602-A6F7F32180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A1BE-32A6-4121-B6A8-8CC95A7AB9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F61B-61D4-40BA-ADD0-FAB19124CF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DBF5-45C7-495C-B9AF-D12BC9A5F3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C9EF-9BDE-49A8-8166-7B4309E8ED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B534-9E42-477C-9E5F-DC0C339E5D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FB51-3AF5-413B-A441-54D5216A77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5425-5DFD-4852-A113-8238D2DA00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B144-7D78-4DF8-91C1-CA5C67AE49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B2B5-CBAD-4C08-BF20-BDFD5308C3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3310-A0B8-451C-856F-78F8F38E57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F5A6-A24E-4834-A545-7266D3F600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C1AC-CE5B-42F0-862E-4A3DD9B1EC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E59A-1C1A-4D97-88B4-8E95301A78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6FAC-1655-4DEA-B3B1-02B6722C6B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E9D5-56C5-4113-954D-3BEE621138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7AAF-2D7C-4F07-AF61-78D6F31B51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532C-A48E-42DA-ACDA-5C0804F1E0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F91-BF0A-456B-8717-7581BA4149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A4C7-E14C-44A3-9D90-70F00ED841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FC3-9ED7-4383-9632-4B01B74840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0267-E882-4E09-8241-696CED7473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2382-13EA-49E6-9B48-B181D26745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75EE-8411-44BE-8792-C719FA1851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4895-E93D-4271-A6A9-CB2FD76F7C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D2EC-F143-41C7-8C70-5D19639ED5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F75B-1E66-43FF-9371-2C8ECBF6D4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9C76-0F71-472A-8586-553BEE36FA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2314-8EBD-47CD-A5B2-746E9433E8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F0C2-3C26-49A0-AA80-4437DC31CE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B889-02FF-40A0-AE7A-3F88A240A5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783B-662E-4A6A-9848-C098F824CA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E8B3-C1B8-42B0-BA0A-A3C944B114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7815-D2CB-4AAA-BAB8-10B6DDAF0F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A121-DED4-46EB-B33D-52A663792F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2163-BAE7-409F-AE98-D966A72223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4C76-1BCE-487F-A4B4-4F8E07C51D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CF3-2245-4E71-882B-807DDDC844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BD2F-CD0F-4435-99F9-66E790A095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5EC1-EA26-45F0-8DDF-CC3CE87B1B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F384-0332-44EB-8178-CFC5CE6F14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8698-8195-421D-A361-D917A30553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5D73-B6E2-4A90-AF4E-E04EC384DF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52E2-95F5-41B1-A493-68000ABE61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7455-29FD-44B1-8594-CED0AE3954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E37-8EF4-43D4-946D-7B3F3F83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477-AAF2-425E-B4E0-7997A01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251-FF73-4D9E-A819-52629344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266-F4FF-4987-B262-A266ECB4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A25B-EE7B-4B06-BEB4-9393B286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7FEA-904D-4B1E-9FF3-DE535A9A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BFFD-C190-4C46-AE98-20D681DF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F742-DF71-4515-B223-D991F37D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A735-0BF2-4338-B8B2-B6F0E314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9106-5BFD-42EA-8BA6-154C5ECD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70FD-58B2-4766-93C2-6191071C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70D-61FA-4740-890E-B7027576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A9A2-26D4-4CCD-B5A1-D88DA6B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51D7-785F-4CB7-AA74-B8231E2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12E1-88E8-44E3-BCCB-7B889C8B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6E6E-A23F-4A12-BB3E-4C194DFD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43A9-7970-42D6-B4BA-C57A48CD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7FE0-9C43-4A9F-8856-29385547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F1B3-52A0-4D6D-99AF-98B701A9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1B44-7973-480D-AE32-E5A4CB27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2E76-2C8F-49CC-8CD9-A8E05E5F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984C-5BA5-4114-942D-2AA68EDE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218-BB19-482D-A37E-36907DD3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2247-04E4-4DA5-85D6-33FFADC6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0C8D-F829-4EE0-91A8-760133E0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5195-46A2-4B5F-B12A-4E8E7F6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57CC-6F09-4C67-BFF8-02BD1CE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08B95-35B7-407D-A5CD-A3870F6F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0254-C64F-4EDD-A55D-5B533114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E51D-B28B-4F5E-A4E8-B23EF8AD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493C-28A5-4F8D-9924-96055EBA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568B-07E3-47DC-942F-0064B9B4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6BE3-3423-4618-AA83-0D231283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D21-71D9-45F2-A2A3-4A6381C3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7217A-49F1-4889-91D6-D334E92A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3236-9AB1-419A-9F02-BFBD675F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4D1EA-35D7-4A57-A9FC-0E8B0D91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508D-996E-4497-926E-961F861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5061-015E-4A8F-9372-3CC6D7B4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7B47-5711-4B44-8888-1EAB112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AE433-FDC8-4CA8-99AA-96E155B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2D55-C42E-4800-ADBD-01DDD46F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4C5B0-6AC0-4EEE-8CC5-8104DF87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C7031-67BA-451C-B20F-623F390E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339-2FE2-4286-B593-E584016D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48E10-1B86-4D39-9F3F-405FF874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6EBC1-A048-4C63-99F8-E406D3F2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4D29-955E-403C-8422-DBDF7D20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D1774-ECC1-4652-9164-2D011B1B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B9EFB-3EB6-4758-852D-CDB66A57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4D09F-6F46-4740-A080-90E8A82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59A1-DEFC-4100-9483-9ED9AC29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FE734-EB86-4604-A602-4FDB50F8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3390-DB0C-4A18-BE52-7FB3E878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83BE9-E61D-44A6-9581-C226DA07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823-5D53-4460-A5AA-BF92AC78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4F45E-708B-4393-8496-8C5F991B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B6E58-8F1D-4AD9-B39E-D0706234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55752-035F-4CD9-AA95-699B72DD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55222-321E-409B-BAE8-AA6DC849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19070-8CA7-44FA-AE1C-83619F02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0F83F-7A05-4CBD-B256-7579E1BE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99E8-8605-47DE-A707-D1663A47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B0AC6-ABA9-493D-AB63-A2A92D10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E7E9-0382-40C1-B951-0C3700FE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9D2B6-C17D-46F8-A101-ED2DB44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927-5576-4EE8-87A6-392C31B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8B288-345C-41EC-8870-92929E4C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83AF4-9E5F-4718-A6E7-DA4DD07F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C3B87-067A-450F-BF41-EA5CEC79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C81D9-65E7-4C90-BA17-322EDCAE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31D52-48B3-4DC1-B122-84319FCE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DFC2F-66EF-4A82-A368-71ABF129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2B9D4-93BF-43C1-B4BA-D80E39C9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BD182-E15E-4A2B-AB49-355B592C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B3998-D527-4E6B-89FD-1E8D18BF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BE3C6-D99D-4C9A-A329-45576ECC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2D7-149C-4874-9FD0-46F5DFA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5DB79-7E47-4D7E-86D9-DE34F41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CB578-7F8E-4F14-A6E8-27D09B98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44A9D-8AE9-46A3-B7EC-A0D69BB8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0B16F-A357-4E3F-B414-578FE30D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F9B7E-155F-4329-9217-F7DCDE3A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51D-B7FA-4A10-AB56-DDF506F4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4985-7B5C-4700-998C-C38D94F331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инженина Софья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ладимировна, заме. директора по информатизации МОУ гимназии № 76 г. Челябинск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8BB0-4C5D-4259-BB7E-0D378E740AB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6DE0-F0E6-4FD0-B356-31AAD0037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EF44-7865-4365-8CE5-1D613B9C62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8DE4-AE83-482A-AB36-288429284A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6F46-7F80-4447-8202-2FB4C7D0186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011B-E772-4C31-B770-C0215FC772E5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68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0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4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52.xml"/><Relationship Id="rId9" Type="http://schemas.openxmlformats.org/officeDocument/2006/relationships/slide" Target="slide52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26.xml"/><Relationship Id="rId13" Type="http://schemas.openxmlformats.org/officeDocument/2006/relationships/slide" Target="slide26.xml"/><Relationship Id="rId14" Type="http://schemas.openxmlformats.org/officeDocument/2006/relationships/slide" Target="slide38.xml"/><Relationship Id="rId15" Type="http://schemas.openxmlformats.org/officeDocument/2006/relationships/slide" Target="slide38.xml"/><Relationship Id="rId16" Type="http://schemas.openxmlformats.org/officeDocument/2006/relationships/slide" Target="slide18.xml"/><Relationship Id="rId17" Type="http://schemas.openxmlformats.org/officeDocument/2006/relationships/slide" Target="slide18.xml"/><Relationship Id="rId18" Type="http://schemas.openxmlformats.org/officeDocument/2006/relationships/slide" Target="slide30.xml"/><Relationship Id="rId19" Type="http://schemas.openxmlformats.org/officeDocument/2006/relationships/slide" Target="slide28.xml"/><Relationship Id="rId20" Type="http://schemas.openxmlformats.org/officeDocument/2006/relationships/slide" Target="slide40.xml"/><Relationship Id="rId21" Type="http://schemas.openxmlformats.org/officeDocument/2006/relationships/slide" Target="slide40.xml"/><Relationship Id="rId22" Type="http://schemas.openxmlformats.org/officeDocument/2006/relationships/slide" Target="slide8.xml"/><Relationship Id="rId23" Type="http://schemas.openxmlformats.org/officeDocument/2006/relationships/slide" Target="slide8.xml"/><Relationship Id="rId24" Type="http://schemas.openxmlformats.org/officeDocument/2006/relationships/slide" Target="slide10.xml"/><Relationship Id="rId25" Type="http://schemas.openxmlformats.org/officeDocument/2006/relationships/slide" Target="slide10.xml"/><Relationship Id="rId26" Type="http://schemas.openxmlformats.org/officeDocument/2006/relationships/slide" Target="slide12.xml"/><Relationship Id="rId27" Type="http://schemas.openxmlformats.org/officeDocument/2006/relationships/slide" Target="slide12.xml"/><Relationship Id="rId28" Type="http://schemas.openxmlformats.org/officeDocument/2006/relationships/slide" Target="slide52.xml"/><Relationship Id="rId29" Type="http://schemas.openxmlformats.org/officeDocument/2006/relationships/slide" Target="slide54.xml"/><Relationship Id="rId30" Type="http://schemas.openxmlformats.org/officeDocument/2006/relationships/slide" Target="slide52.xml"/><Relationship Id="rId31" Type="http://schemas.openxmlformats.org/officeDocument/2006/relationships/slide" Target="slide56.xml"/><Relationship Id="rId32" Type="http://schemas.openxmlformats.org/officeDocument/2006/relationships/slide" Target="slide52.xml"/><Relationship Id="rId33" Type="http://schemas.openxmlformats.org/officeDocument/2006/relationships/slide" Target="slide60.xml"/><Relationship Id="rId34" Type="http://schemas.openxmlformats.org/officeDocument/2006/relationships/slide" Target="slide18.xml"/><Relationship Id="rId35" Type="http://schemas.openxmlformats.org/officeDocument/2006/relationships/slide" Target="slide20.xml"/><Relationship Id="rId36" Type="http://schemas.openxmlformats.org/officeDocument/2006/relationships/slide" Target="slide18.xml"/><Relationship Id="rId37" Type="http://schemas.openxmlformats.org/officeDocument/2006/relationships/slide" Target="slide22.xml"/><Relationship Id="rId38" Type="http://schemas.openxmlformats.org/officeDocument/2006/relationships/slide" Target="slide18.xml"/><Relationship Id="rId39" Type="http://schemas.openxmlformats.org/officeDocument/2006/relationships/slide" Target="slide24.xml"/><Relationship Id="rId40" Type="http://schemas.openxmlformats.org/officeDocument/2006/relationships/slide" Target="slide30.xml"/><Relationship Id="rId41" Type="http://schemas.openxmlformats.org/officeDocument/2006/relationships/slide" Target="slide32.xml"/><Relationship Id="rId42" Type="http://schemas.openxmlformats.org/officeDocument/2006/relationships/slide" Target="slide30.xml"/><Relationship Id="rId43" Type="http://schemas.openxmlformats.org/officeDocument/2006/relationships/slide" Target="slide34.xml"/><Relationship Id="rId44" Type="http://schemas.openxmlformats.org/officeDocument/2006/relationships/slide" Target="slide30.xml"/><Relationship Id="rId45" Type="http://schemas.openxmlformats.org/officeDocument/2006/relationships/slide" Target="slide36.xml"/><Relationship Id="rId46" Type="http://schemas.openxmlformats.org/officeDocument/2006/relationships/slide" Target="slide40.xml"/><Relationship Id="rId47" Type="http://schemas.openxmlformats.org/officeDocument/2006/relationships/slide" Target="slide42.xml"/><Relationship Id="rId48" Type="http://schemas.openxmlformats.org/officeDocument/2006/relationships/slide" Target="slide40.xml"/><Relationship Id="rId49" Type="http://schemas.openxmlformats.org/officeDocument/2006/relationships/slide" Target="slide46.xml"/><Relationship Id="rId50" Type="http://schemas.openxmlformats.org/officeDocument/2006/relationships/slide" Target="slide40.xml"/><Relationship Id="rId51" Type="http://schemas.openxmlformats.org/officeDocument/2006/relationships/slide" Target="slide48.xml"/><Relationship Id="rId52" Type="http://schemas.openxmlformats.org/officeDocument/2006/relationships/slide" Target="slide112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6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78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80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8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0.xml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84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86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8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90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9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94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44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96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98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100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10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104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106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8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108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4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110.xm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6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1760" y="-12741840"/>
            <a:ext cx="152280" cy="198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09" name="Rectangle 3" descr=""/>
          <p:cNvPicPr/>
          <p:nvPr/>
        </p:nvPicPr>
        <p:blipFill>
          <a:blip r:embed="rId1"/>
          <a:stretch/>
        </p:blipFill>
        <p:spPr>
          <a:xfrm>
            <a:off x="195120" y="3992400"/>
            <a:ext cx="8704440" cy="1841760"/>
          </a:xfrm>
          <a:prstGeom prst="rect">
            <a:avLst/>
          </a:prstGeom>
          <a:ln w="0">
            <a:noFill/>
          </a:ln>
        </p:spPr>
      </p:pic>
      <p:sp>
        <p:nvSpPr>
          <p:cNvPr id="310" name="WordArt 4"/>
          <p:cNvSpPr txBox="1"/>
          <p:nvPr/>
        </p:nvSpPr>
        <p:spPr>
          <a:xfrm>
            <a:off x="1476360" y="907920"/>
            <a:ext cx="6697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ВОЯ  ИГРА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268360" y="60930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лябинск, 20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Седая старуха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Горькая горюха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По полю бродила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С ветром говорила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В хату к нам пришла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В уголке легла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От степного аромата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entury Gothic"/>
              </a:rPr>
              <a:t>Нам милее стала хата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AutoShape 4">
            <a:hlinkClick r:id="rId2" action="ppaction://hlinksldjump"/>
          </p:cNvPr>
          <p:cNvSpPr/>
          <p:nvPr/>
        </p:nvSpPr>
        <p:spPr>
          <a:xfrm>
            <a:off x="4067280" y="5445000"/>
            <a:ext cx="4343400" cy="1067040"/>
          </a:xfrm>
          <a:custGeom>
            <a:avLst/>
            <a:gdLst>
              <a:gd name="textAreaLeft" fmla="*/ 69120 w 4343400"/>
              <a:gd name="textAreaRight" fmla="*/ 4274280 w 43434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7901" h="21600">
                <a:moveTo>
                  <a:pt x="0" y="0"/>
                </a:moveTo>
                <a:lnTo>
                  <a:pt x="87901" y="0"/>
                </a:lnTo>
                <a:lnTo>
                  <a:pt x="87901" y="21600"/>
                </a:lnTo>
                <a:lnTo>
                  <a:pt x="0" y="21600"/>
                </a:lnTo>
                <a:close/>
              </a:path>
              <a:path fill="lightenLess" w="87901" h="21600">
                <a:moveTo>
                  <a:pt x="0" y="0"/>
                </a:moveTo>
                <a:lnTo>
                  <a:pt x="87901" y="0"/>
                </a:lnTo>
                <a:lnTo>
                  <a:pt x="86501" y="1400"/>
                </a:lnTo>
                <a:lnTo>
                  <a:pt x="1400" y="1400"/>
                </a:lnTo>
                <a:close/>
              </a:path>
              <a:path fill="darken" w="87901" h="21600">
                <a:moveTo>
                  <a:pt x="87901" y="0"/>
                </a:moveTo>
                <a:lnTo>
                  <a:pt x="87901" y="21600"/>
                </a:lnTo>
                <a:lnTo>
                  <a:pt x="86501" y="20200"/>
                </a:lnTo>
                <a:lnTo>
                  <a:pt x="86501" y="1400"/>
                </a:lnTo>
                <a:close/>
              </a:path>
              <a:path fill="darkenLess" w="87901" h="21600">
                <a:moveTo>
                  <a:pt x="87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01" y="20200"/>
                </a:lnTo>
                <a:close/>
              </a:path>
              <a:path fill="lighten" w="87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01" h="21600">
                <a:moveTo>
                  <a:pt x="36944" y="10800"/>
                </a:moveTo>
                <a:lnTo>
                  <a:pt x="50957" y="3794"/>
                </a:lnTo>
                <a:lnTo>
                  <a:pt x="50957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Тело покрыто перьями, имеют два крыла и две ноги, развиваются из яиц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3348000" y="508464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Rectangle 2" descr=""/>
          <p:cNvPicPr/>
          <p:nvPr/>
        </p:nvPicPr>
        <p:blipFill>
          <a:blip r:embed="rId1"/>
          <a:stretch/>
        </p:blipFill>
        <p:spPr>
          <a:xfrm>
            <a:off x="353880" y="122400"/>
            <a:ext cx="8339400" cy="154764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Телескоп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AutoShape 6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Rectangle 2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8480520" cy="154764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: Большая Медведица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8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2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8480520" cy="15476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Зодиак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7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5238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Земля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0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Rectangle 2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8480520" cy="15476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Кассиопея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6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ы молодцы!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2" name="WordArt 4"/>
          <p:cNvSpPr txBox="1"/>
          <p:nvPr/>
        </p:nvSpPr>
        <p:spPr>
          <a:xfrm>
            <a:off x="1692360" y="1844640"/>
            <a:ext cx="525600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о  встречи!!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КОТ В МЕШКЕ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AutoShape 4">
            <a:hlinkClick r:id="rId2" action="ppaction://hlinksldjump"/>
          </p:cNvPr>
          <p:cNvSpPr/>
          <p:nvPr/>
        </p:nvSpPr>
        <p:spPr>
          <a:xfrm>
            <a:off x="2362320" y="3657600"/>
            <a:ext cx="4343400" cy="1066680"/>
          </a:xfrm>
          <a:custGeom>
            <a:avLst/>
            <a:gdLst>
              <a:gd name="textAreaLeft" fmla="*/ 69120 w 4343400"/>
              <a:gd name="textAreaRight" fmla="*/ 4274280 w 4343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7930" h="21600">
                <a:moveTo>
                  <a:pt x="0" y="0"/>
                </a:moveTo>
                <a:lnTo>
                  <a:pt x="87930" y="0"/>
                </a:lnTo>
                <a:lnTo>
                  <a:pt x="87930" y="21600"/>
                </a:lnTo>
                <a:lnTo>
                  <a:pt x="0" y="21600"/>
                </a:lnTo>
                <a:close/>
              </a:path>
              <a:path fill="lightenLess" w="87930" h="21600">
                <a:moveTo>
                  <a:pt x="0" y="0"/>
                </a:moveTo>
                <a:lnTo>
                  <a:pt x="87930" y="0"/>
                </a:lnTo>
                <a:lnTo>
                  <a:pt x="86530" y="1400"/>
                </a:lnTo>
                <a:lnTo>
                  <a:pt x="1400" y="1400"/>
                </a:lnTo>
                <a:close/>
              </a:path>
              <a:path fill="darken" w="87930" h="21600">
                <a:moveTo>
                  <a:pt x="87930" y="0"/>
                </a:moveTo>
                <a:lnTo>
                  <a:pt x="87930" y="21600"/>
                </a:lnTo>
                <a:lnTo>
                  <a:pt x="86530" y="20200"/>
                </a:lnTo>
                <a:lnTo>
                  <a:pt x="86530" y="1400"/>
                </a:lnTo>
                <a:close/>
              </a:path>
              <a:path fill="darkenLess" w="87930" h="21600">
                <a:moveTo>
                  <a:pt x="87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30" y="20200"/>
                </a:lnTo>
                <a:close/>
              </a:path>
              <a:path fill="lighten" w="87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30" h="21600">
                <a:moveTo>
                  <a:pt x="36959" y="10800"/>
                </a:moveTo>
                <a:lnTo>
                  <a:pt x="50972" y="3794"/>
                </a:lnTo>
                <a:lnTo>
                  <a:pt x="50972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231840" y="-92160"/>
            <a:ext cx="8461440" cy="17622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Как связаны между собой осина, заяц и лиса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AutoShape 4">
            <a:hlinkClick r:id="rId2" action="ppaction://hlinksldjump"/>
          </p:cNvPr>
          <p:cNvSpPr/>
          <p:nvPr/>
        </p:nvSpPr>
        <p:spPr>
          <a:xfrm>
            <a:off x="2895480" y="38862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Один из самых крупных наземных хищников, сохранился только в дальневосточной тайг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AutoShape 4">
            <a:hlinkClick r:id="rId2" action="ppaction://hlinksldjump"/>
          </p:cNvPr>
          <p:cNvSpPr/>
          <p:nvPr/>
        </p:nvSpPr>
        <p:spPr>
          <a:xfrm>
            <a:off x="2895480" y="38862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48392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Цветок, названный в честь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древнеримской богини красоты. В разных странах его называют «Дамская туфелька», «Девичий башмачок»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AutoShape 4">
            <a:hlinkClick r:id="rId2" action="ppaction://hlinksldjump"/>
          </p:cNvPr>
          <p:cNvSpPr/>
          <p:nvPr/>
        </p:nvSpPr>
        <p:spPr>
          <a:xfrm>
            <a:off x="3348000" y="486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313" name="Rectangle 3"/>
          <p:cNvGrpSpPr/>
          <p:nvPr/>
        </p:nvGrpSpPr>
        <p:grpSpPr>
          <a:xfrm>
            <a:off x="838080" y="1828800"/>
            <a:ext cx="7462800" cy="3736800"/>
            <a:chOff x="838080" y="1828800"/>
            <a:chExt cx="7462800" cy="3736800"/>
          </a:xfrm>
        </p:grpSpPr>
        <p:sp>
          <p:nvSpPr>
            <p:cNvPr id="314" name="Rectangle 4"/>
            <p:cNvSpPr/>
            <p:nvPr/>
          </p:nvSpPr>
          <p:spPr>
            <a:xfrm>
              <a:off x="7156440" y="4817880"/>
              <a:ext cx="11444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5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5"/>
            <p:cNvSpPr/>
            <p:nvPr/>
          </p:nvSpPr>
          <p:spPr>
            <a:xfrm>
              <a:off x="6010200" y="4817880"/>
              <a:ext cx="11462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6"/>
            <p:cNvSpPr/>
            <p:nvPr/>
          </p:nvSpPr>
          <p:spPr>
            <a:xfrm>
              <a:off x="4865400" y="4817880"/>
              <a:ext cx="11448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3720960" y="4817880"/>
              <a:ext cx="11444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8"/>
            <p:cNvSpPr/>
            <p:nvPr/>
          </p:nvSpPr>
          <p:spPr>
            <a:xfrm>
              <a:off x="2574720" y="4817880"/>
              <a:ext cx="11462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9"/>
            <p:cNvSpPr/>
            <p:nvPr/>
          </p:nvSpPr>
          <p:spPr>
            <a:xfrm>
              <a:off x="838080" y="4817880"/>
              <a:ext cx="17366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Перелетные птиц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10"/>
            <p:cNvSpPr/>
            <p:nvPr/>
          </p:nvSpPr>
          <p:spPr>
            <a:xfrm>
              <a:off x="7156440" y="4070160"/>
              <a:ext cx="11444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5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11"/>
            <p:cNvSpPr/>
            <p:nvPr/>
          </p:nvSpPr>
          <p:spPr>
            <a:xfrm>
              <a:off x="6010200" y="4070160"/>
              <a:ext cx="11462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12"/>
            <p:cNvSpPr/>
            <p:nvPr/>
          </p:nvSpPr>
          <p:spPr>
            <a:xfrm>
              <a:off x="4865400" y="4070160"/>
              <a:ext cx="11448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>
              <a:off x="3720960" y="4070160"/>
              <a:ext cx="11444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14"/>
            <p:cNvSpPr/>
            <p:nvPr/>
          </p:nvSpPr>
          <p:spPr>
            <a:xfrm>
              <a:off x="2574720" y="4070160"/>
              <a:ext cx="11462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15"/>
            <p:cNvSpPr/>
            <p:nvPr/>
          </p:nvSpPr>
          <p:spPr>
            <a:xfrm>
              <a:off x="838080" y="4070160"/>
              <a:ext cx="17366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раздники  для все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6"/>
            <p:cNvSpPr/>
            <p:nvPr/>
          </p:nvSpPr>
          <p:spPr>
            <a:xfrm>
              <a:off x="7156440" y="3323880"/>
              <a:ext cx="114444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5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7"/>
            <p:cNvSpPr/>
            <p:nvPr/>
          </p:nvSpPr>
          <p:spPr>
            <a:xfrm>
              <a:off x="6010200" y="3323880"/>
              <a:ext cx="114624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8"/>
            <p:cNvSpPr/>
            <p:nvPr/>
          </p:nvSpPr>
          <p:spPr>
            <a:xfrm>
              <a:off x="4865400" y="3323880"/>
              <a:ext cx="11448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9"/>
            <p:cNvSpPr/>
            <p:nvPr/>
          </p:nvSpPr>
          <p:spPr>
            <a:xfrm>
              <a:off x="3720960" y="3323880"/>
              <a:ext cx="114444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2574720" y="3323880"/>
              <a:ext cx="114624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21"/>
            <p:cNvSpPr/>
            <p:nvPr/>
          </p:nvSpPr>
          <p:spPr>
            <a:xfrm>
              <a:off x="838080" y="3323880"/>
              <a:ext cx="173664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Красная книг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2"/>
            <p:cNvSpPr/>
            <p:nvPr/>
          </p:nvSpPr>
          <p:spPr>
            <a:xfrm>
              <a:off x="7156440" y="2576520"/>
              <a:ext cx="114444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5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23"/>
            <p:cNvSpPr/>
            <p:nvPr/>
          </p:nvSpPr>
          <p:spPr>
            <a:xfrm>
              <a:off x="6010200" y="2576520"/>
              <a:ext cx="114624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24"/>
            <p:cNvSpPr/>
            <p:nvPr/>
          </p:nvSpPr>
          <p:spPr>
            <a:xfrm>
              <a:off x="4865400" y="2576520"/>
              <a:ext cx="114480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25"/>
            <p:cNvSpPr/>
            <p:nvPr/>
          </p:nvSpPr>
          <p:spPr>
            <a:xfrm>
              <a:off x="3720960" y="2576520"/>
              <a:ext cx="114444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6"/>
            <p:cNvSpPr/>
            <p:nvPr/>
          </p:nvSpPr>
          <p:spPr>
            <a:xfrm>
              <a:off x="2574720" y="2576520"/>
              <a:ext cx="114624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7"/>
            <p:cNvSpPr/>
            <p:nvPr/>
          </p:nvSpPr>
          <p:spPr>
            <a:xfrm>
              <a:off x="838080" y="2576520"/>
              <a:ext cx="173664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Звездное неб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8"/>
            <p:cNvSpPr/>
            <p:nvPr/>
          </p:nvSpPr>
          <p:spPr>
            <a:xfrm>
              <a:off x="7156440" y="1828800"/>
              <a:ext cx="11444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50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29"/>
            <p:cNvSpPr/>
            <p:nvPr/>
          </p:nvSpPr>
          <p:spPr>
            <a:xfrm>
              <a:off x="6010200" y="1828800"/>
              <a:ext cx="11462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30"/>
            <p:cNvSpPr/>
            <p:nvPr/>
          </p:nvSpPr>
          <p:spPr>
            <a:xfrm>
              <a:off x="4865400" y="1828800"/>
              <a:ext cx="11448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31"/>
            <p:cNvSpPr/>
            <p:nvPr/>
          </p:nvSpPr>
          <p:spPr>
            <a:xfrm>
              <a:off x="3720960" y="1828800"/>
              <a:ext cx="11444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32"/>
            <p:cNvSpPr/>
            <p:nvPr/>
          </p:nvSpPr>
          <p:spPr>
            <a:xfrm>
              <a:off x="2574720" y="1828800"/>
              <a:ext cx="11462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33"/>
            <p:cNvSpPr/>
            <p:nvPr/>
          </p:nvSpPr>
          <p:spPr>
            <a:xfrm>
              <a:off x="838080" y="1828800"/>
              <a:ext cx="173664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Трава у нашего дом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>
              <a:off x="838080" y="1828800"/>
              <a:ext cx="7462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35"/>
            <p:cNvSpPr/>
            <p:nvPr/>
          </p:nvSpPr>
          <p:spPr>
            <a:xfrm>
              <a:off x="838080" y="2576520"/>
              <a:ext cx="746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36"/>
            <p:cNvSpPr/>
            <p:nvPr/>
          </p:nvSpPr>
          <p:spPr>
            <a:xfrm>
              <a:off x="838080" y="3323880"/>
              <a:ext cx="746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37"/>
            <p:cNvSpPr/>
            <p:nvPr/>
          </p:nvSpPr>
          <p:spPr>
            <a:xfrm>
              <a:off x="838080" y="4070160"/>
              <a:ext cx="746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38"/>
            <p:cNvSpPr/>
            <p:nvPr/>
          </p:nvSpPr>
          <p:spPr>
            <a:xfrm>
              <a:off x="838080" y="4817880"/>
              <a:ext cx="746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39"/>
            <p:cNvSpPr/>
            <p:nvPr/>
          </p:nvSpPr>
          <p:spPr>
            <a:xfrm>
              <a:off x="838080" y="5565600"/>
              <a:ext cx="7462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40"/>
            <p:cNvSpPr/>
            <p:nvPr/>
          </p:nvSpPr>
          <p:spPr>
            <a:xfrm>
              <a:off x="838080" y="1828800"/>
              <a:ext cx="0" cy="3736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41"/>
            <p:cNvSpPr/>
            <p:nvPr/>
          </p:nvSpPr>
          <p:spPr>
            <a:xfrm>
              <a:off x="2574720" y="1828800"/>
              <a:ext cx="0" cy="37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42"/>
            <p:cNvSpPr/>
            <p:nvPr/>
          </p:nvSpPr>
          <p:spPr>
            <a:xfrm>
              <a:off x="3720960" y="1828800"/>
              <a:ext cx="0" cy="37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43"/>
            <p:cNvSpPr/>
            <p:nvPr/>
          </p:nvSpPr>
          <p:spPr>
            <a:xfrm>
              <a:off x="4865400" y="1828800"/>
              <a:ext cx="0" cy="37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44"/>
            <p:cNvSpPr/>
            <p:nvPr/>
          </p:nvSpPr>
          <p:spPr>
            <a:xfrm>
              <a:off x="6010200" y="1828800"/>
              <a:ext cx="0" cy="37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5"/>
            <p:cNvSpPr/>
            <p:nvPr/>
          </p:nvSpPr>
          <p:spPr>
            <a:xfrm>
              <a:off x="7156440" y="1828800"/>
              <a:ext cx="0" cy="373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6"/>
            <p:cNvSpPr/>
            <p:nvPr/>
          </p:nvSpPr>
          <p:spPr>
            <a:xfrm>
              <a:off x="8300880" y="1828800"/>
              <a:ext cx="0" cy="3736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AutoShape 72">
            <a:hlinkClick r:id="rId2" action="ppaction://hlinksldjump"/>
          </p:cNvPr>
          <p:cNvSpPr/>
          <p:nvPr/>
        </p:nvSpPr>
        <p:spPr>
          <a:xfrm>
            <a:off x="2590920" y="18288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74">
            <a:hlinkClick r:id="rId4" action="ppaction://hlinksldjump"/>
          </p:cNvPr>
          <p:cNvSpPr/>
          <p:nvPr/>
        </p:nvSpPr>
        <p:spPr>
          <a:xfrm>
            <a:off x="3733920" y="18288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5" action="ppaction://hlinksldjump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76">
            <a:hlinkClick r:id="rId6" action="ppaction://hlinksldjump"/>
          </p:cNvPr>
          <p:cNvSpPr/>
          <p:nvPr/>
        </p:nvSpPr>
        <p:spPr>
          <a:xfrm>
            <a:off x="2590920" y="25909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7">
            <a:hlinkClick r:id="rId8" action="ppaction://hlinksldjump"/>
          </p:cNvPr>
          <p:cNvSpPr/>
          <p:nvPr/>
        </p:nvSpPr>
        <p:spPr>
          <a:xfrm>
            <a:off x="3733920" y="25909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9" action="ppaction://hlinksldjump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78">
            <a:hlinkClick r:id="rId10" action="ppaction://hlinksldjump"/>
          </p:cNvPr>
          <p:cNvSpPr/>
          <p:nvPr/>
        </p:nvSpPr>
        <p:spPr>
          <a:xfrm>
            <a:off x="2590920" y="33526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11" action="ppaction://hlinksldjump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79">
            <a:hlinkClick r:id="rId12" action="ppaction://hlinksldjump"/>
          </p:cNvPr>
          <p:cNvSpPr/>
          <p:nvPr/>
        </p:nvSpPr>
        <p:spPr>
          <a:xfrm>
            <a:off x="2590920" y="40384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13" action="ppaction://hlinksldjump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80">
            <a:hlinkClick r:id="rId14" action="ppaction://hlinksldjump"/>
          </p:cNvPr>
          <p:cNvSpPr/>
          <p:nvPr/>
        </p:nvSpPr>
        <p:spPr>
          <a:xfrm>
            <a:off x="2590920" y="48006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15" action="ppaction://hlinksldjump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1">
            <a:hlinkClick r:id="rId16" action="ppaction://hlinksldjump"/>
          </p:cNvPr>
          <p:cNvSpPr/>
          <p:nvPr/>
        </p:nvSpPr>
        <p:spPr>
          <a:xfrm>
            <a:off x="3733920" y="33526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17" action="ppaction://hlinksldjump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82">
            <a:hlinkClick r:id="rId18" action="ppaction://hlinksldjump"/>
          </p:cNvPr>
          <p:cNvSpPr/>
          <p:nvPr/>
        </p:nvSpPr>
        <p:spPr>
          <a:xfrm>
            <a:off x="3733920" y="40384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19" action="ppaction://hlinksldjump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83">
            <a:hlinkClick r:id="rId20" action="ppaction://hlinksldjump"/>
          </p:cNvPr>
          <p:cNvSpPr/>
          <p:nvPr/>
        </p:nvSpPr>
        <p:spPr>
          <a:xfrm>
            <a:off x="3733920" y="48006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21" action="ppaction://hlinksldjump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84">
            <a:hlinkClick r:id="rId22" action="ppaction://hlinksldjump"/>
          </p:cNvPr>
          <p:cNvSpPr/>
          <p:nvPr/>
        </p:nvSpPr>
        <p:spPr>
          <a:xfrm>
            <a:off x="4876920" y="18288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23" action="ppaction://hlinksldjump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85">
            <a:hlinkClick r:id="rId24" action="ppaction://hlinksldjump"/>
          </p:cNvPr>
          <p:cNvSpPr/>
          <p:nvPr/>
        </p:nvSpPr>
        <p:spPr>
          <a:xfrm>
            <a:off x="6019920" y="18288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25" action="ppaction://hlinksldjump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88">
            <a:hlinkClick r:id="rId26" action="ppaction://hlinksldjump"/>
          </p:cNvPr>
          <p:cNvSpPr/>
          <p:nvPr/>
        </p:nvSpPr>
        <p:spPr>
          <a:xfrm>
            <a:off x="7162920" y="18288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27" action="ppaction://hlinksldjump"/>
              </a:rPr>
              <a:t>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90">
            <a:hlinkClick r:id="rId28" action="ppaction://hlinksldjump"/>
          </p:cNvPr>
          <p:cNvSpPr/>
          <p:nvPr/>
        </p:nvSpPr>
        <p:spPr>
          <a:xfrm>
            <a:off x="4876920" y="25909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29" action="ppaction://hlinksldjump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91">
            <a:hlinkClick r:id="rId30" action="ppaction://hlinksldjump"/>
          </p:cNvPr>
          <p:cNvSpPr/>
          <p:nvPr/>
        </p:nvSpPr>
        <p:spPr>
          <a:xfrm>
            <a:off x="6019920" y="25909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31" action="ppaction://hlinksldjump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92">
            <a:hlinkClick r:id="rId32" action="ppaction://hlinksldjump"/>
          </p:cNvPr>
          <p:cNvSpPr/>
          <p:nvPr/>
        </p:nvSpPr>
        <p:spPr>
          <a:xfrm>
            <a:off x="7162920" y="25909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33" action="ppaction://hlinksldjump"/>
              </a:rPr>
              <a:t>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93">
            <a:hlinkClick r:id="rId34" action="ppaction://hlinksldjump"/>
          </p:cNvPr>
          <p:cNvSpPr/>
          <p:nvPr/>
        </p:nvSpPr>
        <p:spPr>
          <a:xfrm>
            <a:off x="4876920" y="33526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35" action="ppaction://hlinksldjump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94">
            <a:hlinkClick r:id="rId36" action="ppaction://hlinksldjump"/>
          </p:cNvPr>
          <p:cNvSpPr/>
          <p:nvPr/>
        </p:nvSpPr>
        <p:spPr>
          <a:xfrm>
            <a:off x="6019920" y="33526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37" action="ppaction://hlinksldjump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95">
            <a:hlinkClick r:id="rId38" action="ppaction://hlinksldjump"/>
          </p:cNvPr>
          <p:cNvSpPr/>
          <p:nvPr/>
        </p:nvSpPr>
        <p:spPr>
          <a:xfrm>
            <a:off x="7162920" y="33526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39" action="ppaction://hlinksldjump"/>
              </a:rPr>
              <a:t>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96">
            <a:hlinkClick r:id="rId40" action="ppaction://hlinksldjump"/>
          </p:cNvPr>
          <p:cNvSpPr/>
          <p:nvPr/>
        </p:nvSpPr>
        <p:spPr>
          <a:xfrm>
            <a:off x="4876920" y="40384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41" action="ppaction://hlinksldjump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97">
            <a:hlinkClick r:id="rId42" action="ppaction://hlinksldjump"/>
          </p:cNvPr>
          <p:cNvSpPr/>
          <p:nvPr/>
        </p:nvSpPr>
        <p:spPr>
          <a:xfrm>
            <a:off x="6019920" y="40384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43" action="ppaction://hlinksldjump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98">
            <a:hlinkClick r:id="rId44" action="ppaction://hlinksldjump"/>
          </p:cNvPr>
          <p:cNvSpPr/>
          <p:nvPr/>
        </p:nvSpPr>
        <p:spPr>
          <a:xfrm>
            <a:off x="7162920" y="40384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45" action="ppaction://hlinksldjump"/>
              </a:rPr>
              <a:t>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99">
            <a:hlinkClick r:id="rId46" action="ppaction://hlinksldjump"/>
          </p:cNvPr>
          <p:cNvSpPr/>
          <p:nvPr/>
        </p:nvSpPr>
        <p:spPr>
          <a:xfrm>
            <a:off x="4876920" y="48006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47" action="ppaction://hlinksldjump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00">
            <a:hlinkClick r:id="rId48" action="ppaction://hlinksldjump"/>
          </p:cNvPr>
          <p:cNvSpPr/>
          <p:nvPr/>
        </p:nvSpPr>
        <p:spPr>
          <a:xfrm>
            <a:off x="6019920" y="48006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49" action="ppaction://hlinksldjump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101">
            <a:hlinkClick r:id="rId50" action="ppaction://hlinksldjump"/>
          </p:cNvPr>
          <p:cNvSpPr/>
          <p:nvPr/>
        </p:nvSpPr>
        <p:spPr>
          <a:xfrm>
            <a:off x="7162920" y="48006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51" action="ppaction://hlinksldjump"/>
              </a:rPr>
              <a:t>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2">
            <a:hlinkClick r:id="rId52" action="ppaction://hlinksldjump"/>
          </p:cNvPr>
          <p:cNvSpPr/>
          <p:nvPr/>
        </p:nvSpPr>
        <p:spPr>
          <a:xfrm>
            <a:off x="1752480" y="5791320"/>
            <a:ext cx="5943600" cy="838080"/>
          </a:xfrm>
          <a:custGeom>
            <a:avLst/>
            <a:gdLst>
              <a:gd name="textAreaLeft" fmla="*/ 54000 w 5943600"/>
              <a:gd name="textAreaRight" fmla="*/ 5889600 w 5943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53129" h="21600">
                <a:moveTo>
                  <a:pt x="0" y="0"/>
                </a:moveTo>
                <a:lnTo>
                  <a:pt x="153129" y="0"/>
                </a:lnTo>
                <a:lnTo>
                  <a:pt x="153129" y="21600"/>
                </a:lnTo>
                <a:lnTo>
                  <a:pt x="0" y="21600"/>
                </a:lnTo>
                <a:close/>
              </a:path>
              <a:path fill="lightenLess" w="153129" h="21600">
                <a:moveTo>
                  <a:pt x="0" y="0"/>
                </a:moveTo>
                <a:lnTo>
                  <a:pt x="153129" y="0"/>
                </a:lnTo>
                <a:lnTo>
                  <a:pt x="151729" y="1400"/>
                </a:lnTo>
                <a:lnTo>
                  <a:pt x="1400" y="1400"/>
                </a:lnTo>
                <a:close/>
              </a:path>
              <a:path fill="darken" w="153129" h="21600">
                <a:moveTo>
                  <a:pt x="153129" y="0"/>
                </a:moveTo>
                <a:lnTo>
                  <a:pt x="153129" y="21600"/>
                </a:lnTo>
                <a:lnTo>
                  <a:pt x="151729" y="20200"/>
                </a:lnTo>
                <a:lnTo>
                  <a:pt x="151729" y="1400"/>
                </a:lnTo>
                <a:close/>
              </a:path>
              <a:path fill="darkenLess" w="153129" h="21600">
                <a:moveTo>
                  <a:pt x="1531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729" y="20200"/>
                </a:lnTo>
                <a:close/>
              </a:path>
              <a:path fill="lighten" w="1531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НЕЦ ИГР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Древнейшее лекарственное растение, в переводе с китайского языка означает «человек-корень»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AutoShape 4">
            <a:hlinkClick r:id="rId2" action="ppaction://hlinksldjump"/>
          </p:cNvPr>
          <p:cNvSpPr/>
          <p:nvPr/>
        </p:nvSpPr>
        <p:spPr>
          <a:xfrm>
            <a:off x="3995640" y="472428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Самый крупный жук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в нашей стран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AutoShape 4">
            <a:hlinkClick r:id="rId2" action="ppaction://hlinksldjump"/>
          </p:cNvPr>
          <p:cNvSpPr/>
          <p:nvPr/>
        </p:nvSpPr>
        <p:spPr>
          <a:xfrm>
            <a:off x="2895480" y="4572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Журавль с белым оперением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AutoShape 4">
            <a:hlinkClick r:id="rId2" action="ppaction://hlinksldjump"/>
          </p:cNvPr>
          <p:cNvSpPr/>
          <p:nvPr/>
        </p:nvSpPr>
        <p:spPr>
          <a:xfrm>
            <a:off x="2895480" y="449568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Когда отмечается самый любимый детьми праздник – Новый год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AutoShape 4">
            <a:hlinkClick r:id="rId2" action="ppaction://hlinksldjump"/>
          </p:cNvPr>
          <p:cNvSpPr/>
          <p:nvPr/>
        </p:nvSpPr>
        <p:spPr>
          <a:xfrm>
            <a:off x="2895480" y="426708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КОТ В МЕШКЕ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AutoShape 4">
            <a:hlinkClick r:id="rId2" action="ppaction://hlinksldjump"/>
          </p:cNvPr>
          <p:cNvSpPr/>
          <p:nvPr/>
        </p:nvSpPr>
        <p:spPr>
          <a:xfrm>
            <a:off x="2362320" y="3657600"/>
            <a:ext cx="4343400" cy="1066680"/>
          </a:xfrm>
          <a:custGeom>
            <a:avLst/>
            <a:gdLst>
              <a:gd name="textAreaLeft" fmla="*/ 69120 w 4343400"/>
              <a:gd name="textAreaRight" fmla="*/ 4274280 w 4343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7930" h="21600">
                <a:moveTo>
                  <a:pt x="0" y="0"/>
                </a:moveTo>
                <a:lnTo>
                  <a:pt x="87930" y="0"/>
                </a:lnTo>
                <a:lnTo>
                  <a:pt x="87930" y="21600"/>
                </a:lnTo>
                <a:lnTo>
                  <a:pt x="0" y="21600"/>
                </a:lnTo>
                <a:close/>
              </a:path>
              <a:path fill="lightenLess" w="87930" h="21600">
                <a:moveTo>
                  <a:pt x="0" y="0"/>
                </a:moveTo>
                <a:lnTo>
                  <a:pt x="87930" y="0"/>
                </a:lnTo>
                <a:lnTo>
                  <a:pt x="86530" y="1400"/>
                </a:lnTo>
                <a:lnTo>
                  <a:pt x="1400" y="1400"/>
                </a:lnTo>
                <a:close/>
              </a:path>
              <a:path fill="darken" w="87930" h="21600">
                <a:moveTo>
                  <a:pt x="87930" y="0"/>
                </a:moveTo>
                <a:lnTo>
                  <a:pt x="87930" y="21600"/>
                </a:lnTo>
                <a:lnTo>
                  <a:pt x="86530" y="20200"/>
                </a:lnTo>
                <a:lnTo>
                  <a:pt x="86530" y="1400"/>
                </a:lnTo>
                <a:close/>
              </a:path>
              <a:path fill="darkenLess" w="87930" h="21600">
                <a:moveTo>
                  <a:pt x="87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30" y="20200"/>
                </a:lnTo>
                <a:close/>
              </a:path>
              <a:path fill="lighten" w="87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30" h="21600">
                <a:moveTo>
                  <a:pt x="36959" y="10800"/>
                </a:moveTo>
                <a:lnTo>
                  <a:pt x="50972" y="3794"/>
                </a:lnTo>
                <a:lnTo>
                  <a:pt x="50972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3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День осеннего равноденствия 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AutoShape 4">
            <a:hlinkClick r:id="rId2" action="ppaction://hlinksldjump"/>
          </p:cNvPr>
          <p:cNvSpPr/>
          <p:nvPr/>
        </p:nvSpPr>
        <p:spPr>
          <a:xfrm>
            <a:off x="2895480" y="495288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День народного единств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AutoShape 4">
            <a:hlinkClick r:id="rId2" action="ppaction://hlinksldjump"/>
          </p:cNvPr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День России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AutoShape 4">
            <a:hlinkClick r:id="rId2" action="ppaction://hlinksldjump"/>
          </p:cNvPr>
          <p:cNvSpPr/>
          <p:nvPr/>
        </p:nvSpPr>
        <p:spPr>
          <a:xfrm>
            <a:off x="2895480" y="4572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День государственного флага России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AutoShape 4">
            <a:hlinkClick r:id="rId2" action="ppaction://hlinksldjump"/>
          </p:cNvPr>
          <p:cNvSpPr/>
          <p:nvPr/>
        </p:nvSpPr>
        <p:spPr>
          <a:xfrm>
            <a:off x="2819520" y="449568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212760" y="176040"/>
            <a:ext cx="8480520" cy="14940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Перелётных птиц черней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Чистит пашню от червей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AutoShape 4">
            <a:hlinkClick r:id="rId2" action="ppaction://hlinksldjump"/>
          </p:cNvPr>
          <p:cNvSpPr/>
          <p:nvPr/>
        </p:nvSpPr>
        <p:spPr>
          <a:xfrm>
            <a:off x="2895480" y="38862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а листьях и стебельках растения находится большое количество волосков в виде тонкой иглы, которые служат защитой от травоядных животных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AutoShape 4">
            <a:hlinkClick r:id="rId2" action="ppaction://hlinksldjump"/>
          </p:cNvPr>
          <p:cNvSpPr/>
          <p:nvPr/>
        </p:nvSpPr>
        <p:spPr>
          <a:xfrm>
            <a:off x="4284720" y="508464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8480520" cy="1547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Угадайте, что за птичка- тёмненькая невеличк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Беленькая с живота,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Хвост раздвинут в два хвост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AutoShape 4">
            <a:hlinkClick r:id="rId2" action="ppaction://hlinksldjump"/>
          </p:cNvPr>
          <p:cNvSpPr/>
          <p:nvPr/>
        </p:nvSpPr>
        <p:spPr>
          <a:xfrm>
            <a:off x="3132000" y="530064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2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8480520" cy="15476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457200" y="1599840"/>
            <a:ext cx="1371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AutoShape 4">
            <a:hlinkClick r:id="rId2" action="ppaction://hlinksldjump"/>
          </p:cNvPr>
          <p:cNvSpPr/>
          <p:nvPr/>
        </p:nvSpPr>
        <p:spPr>
          <a:xfrm>
            <a:off x="2895480" y="403848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53352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2d2d2"/>
                </a:solidFill>
                <a:latin typeface="Arial"/>
              </a:rPr>
              <a:t>АУКЦИОН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Rectangle 2" descr=""/>
          <p:cNvPicPr/>
          <p:nvPr/>
        </p:nvPicPr>
        <p:blipFill>
          <a:blip r:embed="rId1"/>
          <a:stretch/>
        </p:blipFill>
        <p:spPr>
          <a:xfrm>
            <a:off x="334800" y="146160"/>
            <a:ext cx="8358480" cy="15238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456840" y="18284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Назовите трёх зимующих птиц в нашей местности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AutoShape 4">
            <a:hlinkClick r:id="rId2" action="ppaction://hlinksldjump"/>
          </p:cNvPr>
          <p:cNvSpPr/>
          <p:nvPr/>
        </p:nvSpPr>
        <p:spPr>
          <a:xfrm>
            <a:off x="2895480" y="48006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Почему птицы улетают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AutoShape 4">
            <a:hlinkClick r:id="rId2" action="ppaction://hlinksldjump"/>
          </p:cNvPr>
          <p:cNvSpPr/>
          <p:nvPr/>
        </p:nvSpPr>
        <p:spPr>
          <a:xfrm>
            <a:off x="2971800" y="518148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Назовите признаки, которые отличают птиц от других животных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AutoShape 4">
            <a:hlinkClick r:id="rId2" action="ppaction://hlinksldjump"/>
          </p:cNvPr>
          <p:cNvSpPr/>
          <p:nvPr/>
        </p:nvSpPr>
        <p:spPr>
          <a:xfrm>
            <a:off x="2987640" y="479736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4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212760" y="176040"/>
            <a:ext cx="8480520" cy="1494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Чтобы глаз вооружить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И со звездами дружить,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Млечный путь увидеть чтоб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Нужен мощный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AutoShape 4">
            <a:hlinkClick r:id="rId2" action="ppaction://hlinksldjump"/>
          </p:cNvPr>
          <p:cNvSpPr/>
          <p:nvPr/>
        </p:nvSpPr>
        <p:spPr>
          <a:xfrm>
            <a:off x="2843280" y="479736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353880" y="122400"/>
            <a:ext cx="8339400" cy="1547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Из какого ковша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Не пьют, не едят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А только на него глядят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AutoShape 4">
            <a:hlinkClick r:id="rId2" action="ppaction://hlinksldjump"/>
          </p:cNvPr>
          <p:cNvSpPr/>
          <p:nvPr/>
        </p:nvSpPr>
        <p:spPr>
          <a:xfrm>
            <a:off x="4211640" y="479736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5" descr="C:\Users\пользователь\Desktop\уроки перспектива\большая медведица.jpg"/>
          <p:cNvPicPr/>
          <p:nvPr/>
        </p:nvPicPr>
        <p:blipFill>
          <a:blip r:embed="rId3"/>
          <a:stretch/>
        </p:blipFill>
        <p:spPr>
          <a:xfrm>
            <a:off x="1258920" y="3933720"/>
            <a:ext cx="216072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353880" y="122400"/>
            <a:ext cx="8339400" cy="1547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ояс из созвездий, вдоль которого Солнце движется в течение год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3132000" y="458136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8480520" cy="1547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457200" y="1599840"/>
            <a:ext cx="1371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AutoShape 3">
            <a:hlinkClick r:id="rId2" action="ppaction://hlinksldjump"/>
          </p:cNvPr>
          <p:cNvSpPr/>
          <p:nvPr/>
        </p:nvSpPr>
        <p:spPr>
          <a:xfrm>
            <a:off x="2895480" y="403848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53352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2d2d2"/>
                </a:solidFill>
                <a:latin typeface="Arial"/>
              </a:rPr>
              <a:t>АУКЦИОН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5238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720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Разгадайте ребу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AutoShape 4">
            <a:hlinkClick r:id="rId2" action="ppaction://hlinksldjump"/>
          </p:cNvPr>
          <p:cNvSpPr/>
          <p:nvPr/>
        </p:nvSpPr>
        <p:spPr>
          <a:xfrm>
            <a:off x="3132000" y="508464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5" descr="C:\Users\пользователь\Desktop\уроки перспектива\земля.jpg"/>
          <p:cNvPicPr/>
          <p:nvPr/>
        </p:nvPicPr>
        <p:blipFill>
          <a:blip r:embed="rId3"/>
          <a:stretch/>
        </p:blipFill>
        <p:spPr>
          <a:xfrm>
            <a:off x="1547640" y="2205000"/>
            <a:ext cx="69613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267920"/>
            <a:ext cx="82296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Тонкий стебель у дорожки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а конце его — серёжки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а земле лежат листки —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Маленькие лопушки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ам он — как хороший друг,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Лечит ранки ног и рук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AutoShape 4">
            <a:hlinkClick r:id="rId2" action="ppaction://hlinksldjump"/>
          </p:cNvPr>
          <p:cNvSpPr/>
          <p:nvPr/>
        </p:nvSpPr>
        <p:spPr>
          <a:xfrm>
            <a:off x="3203640" y="5373720"/>
            <a:ext cx="4343400" cy="1066680"/>
          </a:xfrm>
          <a:custGeom>
            <a:avLst/>
            <a:gdLst>
              <a:gd name="textAreaLeft" fmla="*/ 69120 w 4343400"/>
              <a:gd name="textAreaRight" fmla="*/ 4274280 w 4343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7930" h="21600">
                <a:moveTo>
                  <a:pt x="0" y="0"/>
                </a:moveTo>
                <a:lnTo>
                  <a:pt x="87930" y="0"/>
                </a:lnTo>
                <a:lnTo>
                  <a:pt x="87930" y="21600"/>
                </a:lnTo>
                <a:lnTo>
                  <a:pt x="0" y="21600"/>
                </a:lnTo>
                <a:close/>
              </a:path>
              <a:path fill="lightenLess" w="87930" h="21600">
                <a:moveTo>
                  <a:pt x="0" y="0"/>
                </a:moveTo>
                <a:lnTo>
                  <a:pt x="87930" y="0"/>
                </a:lnTo>
                <a:lnTo>
                  <a:pt x="86530" y="1400"/>
                </a:lnTo>
                <a:lnTo>
                  <a:pt x="1400" y="1400"/>
                </a:lnTo>
                <a:close/>
              </a:path>
              <a:path fill="darken" w="87930" h="21600">
                <a:moveTo>
                  <a:pt x="87930" y="0"/>
                </a:moveTo>
                <a:lnTo>
                  <a:pt x="87930" y="21600"/>
                </a:lnTo>
                <a:lnTo>
                  <a:pt x="86530" y="20200"/>
                </a:lnTo>
                <a:lnTo>
                  <a:pt x="86530" y="1400"/>
                </a:lnTo>
                <a:close/>
              </a:path>
              <a:path fill="darkenLess" w="87930" h="21600">
                <a:moveTo>
                  <a:pt x="87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30" y="20200"/>
                </a:lnTo>
                <a:close/>
              </a:path>
              <a:path fill="lighten" w="87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30" h="21600">
                <a:moveTo>
                  <a:pt x="36959" y="10800"/>
                </a:moveTo>
                <a:lnTo>
                  <a:pt x="50972" y="3794"/>
                </a:lnTo>
                <a:lnTo>
                  <a:pt x="50972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2" descr=""/>
          <p:cNvPicPr/>
          <p:nvPr/>
        </p:nvPicPr>
        <p:blipFill>
          <a:blip r:embed="rId1"/>
          <a:stretch/>
        </p:blipFill>
        <p:spPr>
          <a:xfrm>
            <a:off x="244440" y="73080"/>
            <a:ext cx="8448840" cy="13478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457200" y="10526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Это созвездие можно найти на небе в любое время года. Его главные звёзды образуют растянутую за «ножки» букву «М». Весной и летом эта «буква» перевёрнута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Своё название созвездие получило по имени царицы – героини древнегреческих мифов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AutoShape 4">
            <a:hlinkClick r:id="rId2" action="ppaction://hlinksldjump"/>
          </p:cNvPr>
          <p:cNvSpPr/>
          <p:nvPr/>
        </p:nvSpPr>
        <p:spPr>
          <a:xfrm>
            <a:off x="3203640" y="5661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5" descr="C:\Users\пользователь\Desktop\уроки перспектива\853764.jpg"/>
          <p:cNvPicPr/>
          <p:nvPr/>
        </p:nvPicPr>
        <p:blipFill>
          <a:blip r:embed="rId3"/>
          <a:stretch/>
        </p:blipFill>
        <p:spPr>
          <a:xfrm>
            <a:off x="6732720" y="4005360"/>
            <a:ext cx="194760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Крапив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4">
            <a:hlinkClick r:id="rId2" action="ppaction://hlinksldjump"/>
          </p:cNvPr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Подорожник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3" name="AutoShape 5">
            <a:hlinkClick r:id="rId2" action="ppaction://hlinksldjump"/>
          </p:cNvPr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Репейник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AutoShape 5">
            <a:hlinkClick r:id="rId2" action="ppaction://hlinksldjump"/>
          </p:cNvPr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2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Полынь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AutoShape 5">
            <a:hlinkClick r:id="rId2" action="ppaction://hlinksldjump"/>
          </p:cNvPr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заяц питается корой осины, лиса питается зайцами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1" name="AutoShape 5">
            <a:hlinkClick r:id="rId2" action="ppaction://hlinksldjump"/>
          </p:cNvPr>
          <p:cNvSpPr/>
          <p:nvPr/>
        </p:nvSpPr>
        <p:spPr>
          <a:xfrm>
            <a:off x="2987640" y="378936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Амурский тигр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7" name="AutoShape 5">
            <a:hlinkClick r:id="rId2" action="ppaction://hlinksldjump"/>
          </p:cNvPr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4" descr="https://avatars.mds.yandex.net/get-pdb/202366/ef5c7726-79ce-40e6-b569-db103187ce02/s800"/>
          <p:cNvPicPr/>
          <p:nvPr/>
        </p:nvPicPr>
        <p:blipFill>
          <a:blip r:embed="rId3"/>
          <a:stretch/>
        </p:blipFill>
        <p:spPr>
          <a:xfrm>
            <a:off x="5383080" y="1500120"/>
            <a:ext cx="304164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Венерин башмачок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AutoShape 5">
            <a:hlinkClick r:id="rId2" action="ppaction://hlinksldjump"/>
          </p:cNvPr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100" descr="C:\Users\dmitr\Desktop\venerin_bashmachok.jpg"/>
          <p:cNvPicPr/>
          <p:nvPr/>
        </p:nvPicPr>
        <p:blipFill>
          <a:blip r:embed="rId3"/>
          <a:stretch/>
        </p:blipFill>
        <p:spPr>
          <a:xfrm>
            <a:off x="6461280" y="2292480"/>
            <a:ext cx="280512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Женьшень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1" name="AutoShape 5">
            <a:hlinkClick r:id="rId2" action="ppaction://hlinksldjump"/>
          </p:cNvPr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101" descr="C:\Users\dmitr\Desktop\american-ginseng-whole-plant-autoxauto.jpg"/>
          <p:cNvPicPr/>
          <p:nvPr/>
        </p:nvPicPr>
        <p:blipFill>
          <a:blip r:embed="rId3"/>
          <a:stretch/>
        </p:blipFill>
        <p:spPr>
          <a:xfrm>
            <a:off x="5883120" y="1427040"/>
            <a:ext cx="2687760" cy="26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Дровосек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Picture 102" descr="C:\Users\dmitr\Desktop\6900153195_107b56ed09_z.jpg"/>
          <p:cNvPicPr/>
          <p:nvPr/>
        </p:nvPicPr>
        <p:blipFill>
          <a:blip r:embed="rId2"/>
          <a:stretch/>
        </p:blipFill>
        <p:spPr>
          <a:xfrm>
            <a:off x="6168960" y="1646280"/>
            <a:ext cx="251784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Выпускает он листы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Широченной широты.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Держатся на стеблях крепких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то плодов шершавых, цепких: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Если их не обойдёшь —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а себе их все найдёшь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AutoShape 4">
            <a:hlinkClick r:id="rId2" action="ppaction://hlinksldjump"/>
          </p:cNvPr>
          <p:cNvSpPr/>
          <p:nvPr/>
        </p:nvSpPr>
        <p:spPr>
          <a:xfrm>
            <a:off x="3780000" y="5373720"/>
            <a:ext cx="4343400" cy="1066680"/>
          </a:xfrm>
          <a:custGeom>
            <a:avLst/>
            <a:gdLst>
              <a:gd name="textAreaLeft" fmla="*/ 69120 w 4343400"/>
              <a:gd name="textAreaRight" fmla="*/ 4274280 w 4343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7930" h="21600">
                <a:moveTo>
                  <a:pt x="0" y="0"/>
                </a:moveTo>
                <a:lnTo>
                  <a:pt x="87930" y="0"/>
                </a:lnTo>
                <a:lnTo>
                  <a:pt x="87930" y="21600"/>
                </a:lnTo>
                <a:lnTo>
                  <a:pt x="0" y="21600"/>
                </a:lnTo>
                <a:close/>
              </a:path>
              <a:path fill="lightenLess" w="87930" h="21600">
                <a:moveTo>
                  <a:pt x="0" y="0"/>
                </a:moveTo>
                <a:lnTo>
                  <a:pt x="87930" y="0"/>
                </a:lnTo>
                <a:lnTo>
                  <a:pt x="86530" y="1400"/>
                </a:lnTo>
                <a:lnTo>
                  <a:pt x="1400" y="1400"/>
                </a:lnTo>
                <a:close/>
              </a:path>
              <a:path fill="darken" w="87930" h="21600">
                <a:moveTo>
                  <a:pt x="87930" y="0"/>
                </a:moveTo>
                <a:lnTo>
                  <a:pt x="87930" y="21600"/>
                </a:lnTo>
                <a:lnTo>
                  <a:pt x="86530" y="20200"/>
                </a:lnTo>
                <a:lnTo>
                  <a:pt x="86530" y="1400"/>
                </a:lnTo>
                <a:close/>
              </a:path>
              <a:path fill="darkenLess" w="87930" h="21600">
                <a:moveTo>
                  <a:pt x="87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30" y="20200"/>
                </a:lnTo>
                <a:close/>
              </a:path>
              <a:path fill="lighten" w="87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30" h="21600">
                <a:moveTo>
                  <a:pt x="36959" y="10800"/>
                </a:moveTo>
                <a:lnTo>
                  <a:pt x="50972" y="3794"/>
                </a:lnTo>
                <a:lnTo>
                  <a:pt x="50972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Стерх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Picture 103" descr="C:\Users\dmitr\Desktop\sterh2.jpg"/>
          <p:cNvPicPr/>
          <p:nvPr/>
        </p:nvPicPr>
        <p:blipFill>
          <a:blip r:embed="rId2"/>
          <a:stretch/>
        </p:blipFill>
        <p:spPr>
          <a:xfrm>
            <a:off x="6168960" y="1859040"/>
            <a:ext cx="310356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1 января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2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23 сентября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8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1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4 ноября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4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Rectang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12 июня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0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3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AutoShape 4">
            <a:hlinkClick r:id="rId1" action="ppaction://hlinksldjump"/>
          </p:cNvPr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4800" spc="-1" strike="noStrike">
                <a:solidFill>
                  <a:srgbClr val="ffffff"/>
                </a:solidFill>
                <a:latin typeface="Century Gothic"/>
              </a:rPr>
              <a:t>22 август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5400" spc="-1" strike="noStrike">
                <a:solidFill>
                  <a:srgbClr val="ffffff"/>
                </a:solidFill>
                <a:latin typeface="Century Gothic"/>
              </a:rPr>
              <a:t>Грач.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2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Ласточки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1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Rectangle 2" descr=""/>
          <p:cNvPicPr/>
          <p:nvPr/>
        </p:nvPicPr>
        <p:blipFill>
          <a:blip r:embed="rId1"/>
          <a:stretch/>
        </p:blipFill>
        <p:spPr>
          <a:xfrm>
            <a:off x="334800" y="146160"/>
            <a:ext cx="8358480" cy="15238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 Глухари, голуби, клесты, дятлы, сойки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4" name="AutoShape 5"/>
          <p:cNvSpPr/>
          <p:nvPr/>
        </p:nvSpPr>
        <p:spPr>
          <a:xfrm>
            <a:off x="2895480" y="34290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1"/>
          <a:stretch/>
        </p:blipFill>
        <p:spPr>
          <a:xfrm>
            <a:off x="334800" y="122400"/>
            <a:ext cx="8358480" cy="154764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ТВЕТ:С приходом осени становится все меньше корм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AutoShape 5"/>
          <p:cNvSpPr/>
          <p:nvPr/>
        </p:nvSpPr>
        <p:spPr>
          <a:xfrm>
            <a:off x="2916360" y="436572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79" h="21600">
                <a:moveTo>
                  <a:pt x="30783" y="10800"/>
                </a:moveTo>
                <a:lnTo>
                  <a:pt x="44796" y="3794"/>
                </a:lnTo>
                <a:lnTo>
                  <a:pt x="44796" y="17806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59984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1600200" y="2057400"/>
            <a:ext cx="6172200" cy="3886200"/>
          </a:xfrm>
          <a:custGeom>
            <a:avLst/>
            <a:gdLst>
              <a:gd name="textAreaLeft" fmla="*/ 251640 w 6172200"/>
              <a:gd name="textAreaRight" fmla="*/ 5920560 w 61722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34305" h="21600">
                <a:moveTo>
                  <a:pt x="0" y="0"/>
                </a:moveTo>
                <a:lnTo>
                  <a:pt x="34305" y="0"/>
                </a:lnTo>
                <a:lnTo>
                  <a:pt x="34305" y="21600"/>
                </a:lnTo>
                <a:lnTo>
                  <a:pt x="0" y="21600"/>
                </a:lnTo>
                <a:close/>
              </a:path>
              <a:path fill="lightenLess" w="34305" h="21600">
                <a:moveTo>
                  <a:pt x="0" y="0"/>
                </a:moveTo>
                <a:lnTo>
                  <a:pt x="34305" y="0"/>
                </a:lnTo>
                <a:lnTo>
                  <a:pt x="32905" y="1400"/>
                </a:lnTo>
                <a:lnTo>
                  <a:pt x="1400" y="1400"/>
                </a:lnTo>
                <a:close/>
              </a:path>
              <a:path fill="darken" w="34305" h="21600">
                <a:moveTo>
                  <a:pt x="34305" y="0"/>
                </a:moveTo>
                <a:lnTo>
                  <a:pt x="34305" y="21600"/>
                </a:lnTo>
                <a:lnTo>
                  <a:pt x="32905" y="20200"/>
                </a:lnTo>
                <a:lnTo>
                  <a:pt x="32905" y="1400"/>
                </a:lnTo>
                <a:close/>
              </a:path>
              <a:path fill="darkenLess" w="34305" h="21600">
                <a:moveTo>
                  <a:pt x="34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5" y="20200"/>
                </a:lnTo>
                <a:close/>
              </a:path>
              <a:path fill="lighten" w="34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2:12:28Z</dcterms:created>
  <dc:creator>User</dc:creator>
  <dc:description/>
  <dc:language>en-US</dc:language>
  <cp:lastModifiedBy>пользователь</cp:lastModifiedBy>
  <dcterms:modified xsi:type="dcterms:W3CDTF">2018-01-05T11:40:42Z</dcterms:modified>
  <cp:revision>35</cp:revision>
  <dc:subject/>
  <dc:title>Слайд 1</dc:title>
</cp:coreProperties>
</file>