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9A0-BAE2-4163-974A-D1F08EF2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D9B-658B-41AB-8206-731C4EB9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6A3-4918-4B08-AA2D-CBC3CCB5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EDE-E735-4037-8387-8F81F839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1D53-3059-4FB5-B1BA-3FEF6ECE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1ED0-1068-4575-9540-B91FAF74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EEA4-054F-4165-A945-78746603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D8E-8FD5-4DEF-B6E1-94CB673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CA1-684A-44C9-8D9C-B6C0E1E0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BB51-8AEC-48AB-8D6F-03005C53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839C-F5CE-4A87-969C-8C1ACA04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6EF-2435-4CEC-90BE-6E47C7D9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E4F6-F5C4-4D03-A07C-3D4CFBF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4393-EC5F-4256-A502-A190C00F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0697-4873-4A5C-9566-28B1C5B9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2129-5D97-432B-8D1B-05998F98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68DA-F616-4626-989A-8C5DBA49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6B4-474A-4AC3-8EB8-9E507D9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256-AABB-455E-A0FE-DB1AA1A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8FF-2820-44A1-932B-CAA30CF8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99A-208B-4739-AA2E-4CFF6C78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1FA-15A4-450E-BB50-10D9D8A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B1A-2BC0-47A4-B1FA-6D46C600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28B-A41F-4425-90D2-03C5CEE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BB6C-52A0-4FEB-9170-9CBE5666092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CF5F-2E49-4602-8F8E-DAF187EEAFC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zakonrf.info/" TargetMode="External"/><Relationship Id="rId3" Type="http://schemas.openxmlformats.org/officeDocument/2006/relationships/hyperlink" Target="http://www.zakonrf.info/zoreklame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ffect.ru/" TargetMode="External"/><Relationship Id="rId3" Type="http://schemas.openxmlformats.org/officeDocument/2006/relationships/hyperlink" Target="http://preffect.ru/production/outdoor/" TargetMode="External"/><Relationship Id="rId4" Type="http://schemas.openxmlformats.org/officeDocument/2006/relationships/hyperlink" Target="http://preffect.ru/production/outdoor/" TargetMode="External"/><Relationship Id="rId5" Type="http://schemas.openxmlformats.org/officeDocument/2006/relationships/hyperlink" Target="http://preffect.ru/production/outdoor/" TargetMode="External"/><Relationship Id="rId6" Type="http://schemas.openxmlformats.org/officeDocument/2006/relationships/hyperlink" Target="http://images.yandex.ru/?lr=172" TargetMode="External"/><Relationship Id="rId7" Type="http://schemas.openxmlformats.org/officeDocument/2006/relationships/hyperlink" Target="http://images.yandex.ru/yandsearch?text=&#1088;&#1077;&#1082;&#1083;&#1072;&#1084;&#1085;&#1099;&#1077;%20&#1073;&#1072;&#1085;&#1085;&#1077;&#1088;&#1099;&amp;lr=172&amp;noreask=1" TargetMode="External"/><Relationship Id="rId8" Type="http://schemas.openxmlformats.org/officeDocument/2006/relationships/hyperlink" Target="http://images.yandex.ru/yandsearch?text=&#1088;&#1077;&#1082;&#1083;&#1072;&#1084;&#1085;&#1099;&#1077;%20&#1073;&#1072;&#1085;&#1085;&#1077;&#1088;&#1099;&amp;lr=172&amp;noreask=1" TargetMode="External"/><Relationship Id="rId9" Type="http://schemas.openxmlformats.org/officeDocument/2006/relationships/hyperlink" Target="http://images.yandex.ru/yandsearch?text=&#1088;&#1077;&#1082;&#1083;&#1072;&#1084;&#1085;&#1099;&#1077;%20&#1073;&#1072;&#1085;&#1085;&#1077;&#1088;&#1099;&amp;lr=172&amp;noreask=1" TargetMode="External"/><Relationship Id="rId10" Type="http://schemas.openxmlformats.org/officeDocument/2006/relationships/hyperlink" Target="http://wiki.mvtom.ru/" TargetMode="External"/><Relationship Id="rId11" Type="http://schemas.openxmlformats.org/officeDocument/2006/relationships/hyperlink" Target="http://wiki.mvtom.ru/index.php/&#1041;&#1072;&#1085;&#1085;&#1077;&#1088;&#1085;&#1072;&#1103;_&#1088;&#1077;&#1082;&#1083;&#1072;&#1084;&#1072;" TargetMode="External"/><Relationship Id="rId12" Type="http://schemas.openxmlformats.org/officeDocument/2006/relationships/hyperlink" Target="http://wiki.mvtom.ru/index.php/&#1041;&#1072;&#1085;&#1085;&#1077;&#1088;&#1085;&#1072;&#1103;_&#1088;&#1077;&#1082;&#1083;&#1072;&#1084;&#1072;" TargetMode="External"/><Relationship Id="rId13" Type="http://schemas.openxmlformats.org/officeDocument/2006/relationships/hyperlink" Target="http://wiki.mvtom.ru/index.php/&#1041;&#1072;&#1085;&#1085;&#1077;&#1088;&#1085;&#1072;&#1103;_&#1088;&#1077;&#1082;&#1083;&#1072;&#1084;&#1072;" TargetMode="Externa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ashinform.ru/content/bus" TargetMode="External"/><Relationship Id="rId3" Type="http://schemas.openxmlformats.org/officeDocument/2006/relationships/hyperlink" Target="http://www.bashinform.ru/content/bus" TargetMode="External"/><Relationship Id="rId4" Type="http://schemas.openxmlformats.org/officeDocument/2006/relationships/hyperlink" Target="http://www.bashinform.ru/content/bus" TargetMode="External"/><Relationship Id="rId5" Type="http://schemas.openxmlformats.org/officeDocument/2006/relationships/hyperlink" Target="http://www.bashinform.ru/content/bus" TargetMode="External"/><Relationship Id="rId6" Type="http://schemas.openxmlformats.org/officeDocument/2006/relationships/hyperlink" Target="http://www.bashinform.ru/content/bus" TargetMode="External"/><Relationship Id="rId7" Type="http://schemas.openxmlformats.org/officeDocument/2006/relationships/hyperlink" Target="http://www.bashinform.ru/content/bus" TargetMode="External"/><Relationship Id="rId8" Type="http://schemas.openxmlformats.org/officeDocument/2006/relationships/hyperlink" Target="http://www.bashinform.ru/content/bus" TargetMode="External"/><Relationship Id="rId9" Type="http://schemas.openxmlformats.org/officeDocument/2006/relationships/hyperlink" Target="http://www.bashinform.ru/content/bus" TargetMode="External"/><Relationship Id="rId10" Type="http://schemas.openxmlformats.org/officeDocument/2006/relationships/hyperlink" Target="http://www.bashinform.ru/content/bus" TargetMode="External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dvesti.ru/" TargetMode="External"/><Relationship Id="rId3" Type="http://schemas.openxmlformats.org/officeDocument/2006/relationships/hyperlink" Target="http://www.advesti.ru/" TargetMode="External"/><Relationship Id="rId4" Type="http://schemas.openxmlformats.org/officeDocument/2006/relationships/hyperlink" Target="http://www.advesti.ru/" TargetMode="External"/><Relationship Id="rId5" Type="http://schemas.openxmlformats.org/officeDocument/2006/relationships/hyperlink" Target="http://www.advesti.ru/publish/video/tvrec2" TargetMode="External"/><Relationship Id="rId6" Type="http://schemas.openxmlformats.org/officeDocument/2006/relationships/hyperlink" Target="http://www.advesti.ru/publish/video/tvrec2" TargetMode="External"/><Relationship Id="rId7" Type="http://schemas.openxmlformats.org/officeDocument/2006/relationships/hyperlink" Target="http://www.advesti.ru/publish/video/tvrec2" TargetMode="External"/><Relationship Id="rId8" Type="http://schemas.openxmlformats.org/officeDocument/2006/relationships/hyperlink" Target="http://www.advesti.ru/publish/video/tvrec2" TargetMode="External"/><Relationship Id="rId9" Type="http://schemas.openxmlformats.org/officeDocument/2006/relationships/hyperlink" Target="http://www.advesti.ru/publish/video/tvrec2" TargetMode="External"/><Relationship Id="rId10" Type="http://schemas.openxmlformats.org/officeDocument/2006/relationships/hyperlink" Target="http://www.advesti.ru/publish/video/tvrec2" TargetMode="External"/><Relationship Id="rId11" Type="http://schemas.openxmlformats.org/officeDocument/2006/relationships/hyperlink" Target="http://nanodigest.ru/" TargetMode="External"/><Relationship Id="rId12" Type="http://schemas.openxmlformats.org/officeDocument/2006/relationships/hyperlink" Target="http://nanodigest.ru/" TargetMode="External"/><Relationship Id="rId13" Type="http://schemas.openxmlformats.org/officeDocument/2006/relationships/hyperlink" Target="http://nanodigest.ru/" TargetMode="External"/><Relationship Id="rId14" Type="http://schemas.openxmlformats.org/officeDocument/2006/relationships/hyperlink" Target="http://nanodigest.ru/content/view/1186/57" TargetMode="External"/><Relationship Id="rId15" Type="http://schemas.openxmlformats.org/officeDocument/2006/relationships/hyperlink" Target="http://nanodigest.ru/content/view/1186/57" TargetMode="External"/><Relationship Id="rId16" Type="http://schemas.openxmlformats.org/officeDocument/2006/relationships/hyperlink" Target="http://nanodigest.ru/content/view/1186/57" TargetMode="External"/><Relationship Id="rId17" Type="http://schemas.openxmlformats.org/officeDocument/2006/relationships/hyperlink" Target="http://nanodigest.ru/content/view/1186/57" TargetMode="External"/><Relationship Id="rId18" Type="http://schemas.openxmlformats.org/officeDocument/2006/relationships/hyperlink" Target="http://www.hr-portal.ru/" TargetMode="External"/><Relationship Id="rId19" Type="http://schemas.openxmlformats.org/officeDocument/2006/relationships/hyperlink" Target="http://www.hr-portal.ru/article/sovremennye-vidy-reklamy-posobie-dlya-lyubopytnykh" TargetMode="External"/><Relationship Id="rId20" Type="http://schemas.openxmlformats.org/officeDocument/2006/relationships/hyperlink" Target="http://www.hr-portal.ru/article/sovremennye-vidy-reklamy-posobie-dlya-lyubopytnykh" TargetMode="External"/><Relationship Id="rId21" Type="http://schemas.openxmlformats.org/officeDocument/2006/relationships/hyperlink" Target="http://www.hr-portal.ru/article/sovremennye-vidy-reklamy-posobie-dlya-lyubopytnykh" TargetMode="External"/><Relationship Id="rId22" Type="http://schemas.openxmlformats.org/officeDocument/2006/relationships/hyperlink" Target="http://www.hr-portal.ru/article/sovremennye-vidy-reklamy-posobie-dlya-lyubopytnykh" TargetMode="External"/><Relationship Id="rId23" Type="http://schemas.openxmlformats.org/officeDocument/2006/relationships/hyperlink" Target="http://www.hr-portal.ru/article/sovremennye-vidy-reklamy-posobie-dlya-lyubopytnykh" TargetMode="External"/><Relationship Id="rId24" Type="http://schemas.openxmlformats.org/officeDocument/2006/relationships/hyperlink" Target="http://www.hr-portal.ru/article/sovremennye-vidy-reklamy-posobie-dlya-lyubopytnykh" TargetMode="External"/><Relationship Id="rId25" Type="http://schemas.openxmlformats.org/officeDocument/2006/relationships/hyperlink" Target="http://www.hr-portal.ru/article/sovremennye-vidy-reklamy-posobie-dlya-lyubopytnykh" TargetMode="External"/><Relationship Id="rId2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dvesti.ru/" TargetMode="External"/><Relationship Id="rId2" Type="http://schemas.openxmlformats.org/officeDocument/2006/relationships/hyperlink" Target="http://www.advesti.ru/" TargetMode="External"/><Relationship Id="rId3" Type="http://schemas.openxmlformats.org/officeDocument/2006/relationships/hyperlink" Target="http://www.advesti.ru/" TargetMode="External"/><Relationship Id="rId4" Type="http://schemas.openxmlformats.org/officeDocument/2006/relationships/hyperlink" Target="http://www.advesti.ru/publish/video/tvrec2" TargetMode="External"/><Relationship Id="rId5" Type="http://schemas.openxmlformats.org/officeDocument/2006/relationships/hyperlink" Target="http://www.advesti.ru/publish/video/tvrec2" TargetMode="External"/><Relationship Id="rId6" Type="http://schemas.openxmlformats.org/officeDocument/2006/relationships/hyperlink" Target="http://www.advesti.ru/publish/video/tvrec2" TargetMode="External"/><Relationship Id="rId7" Type="http://schemas.openxmlformats.org/officeDocument/2006/relationships/hyperlink" Target="http://www.advesti.ru/publish/video/tvrec2" TargetMode="External"/><Relationship Id="rId8" Type="http://schemas.openxmlformats.org/officeDocument/2006/relationships/hyperlink" Target="http://www.advesti.ru/publish/video/tvrec2" TargetMode="External"/><Relationship Id="rId9" Type="http://schemas.openxmlformats.org/officeDocument/2006/relationships/hyperlink" Target="http://www.advesti.ru/publish/video/tvrec2" TargetMode="External"/><Relationship Id="rId10" Type="http://schemas.openxmlformats.org/officeDocument/2006/relationships/hyperlink" Target="http://nanodigest.ru/" TargetMode="External"/><Relationship Id="rId11" Type="http://schemas.openxmlformats.org/officeDocument/2006/relationships/hyperlink" Target="http://nanodigest.ru/" TargetMode="External"/><Relationship Id="rId12" Type="http://schemas.openxmlformats.org/officeDocument/2006/relationships/hyperlink" Target="http://nanodigest.ru/" TargetMode="External"/><Relationship Id="rId13" Type="http://schemas.openxmlformats.org/officeDocument/2006/relationships/hyperlink" Target="http://nanodigest.ru/content/view/1186/57" TargetMode="External"/><Relationship Id="rId14" Type="http://schemas.openxmlformats.org/officeDocument/2006/relationships/hyperlink" Target="http://nanodigest.ru/content/view/1186/57" TargetMode="External"/><Relationship Id="rId15" Type="http://schemas.openxmlformats.org/officeDocument/2006/relationships/hyperlink" Target="http://nanodigest.ru/content/view/1186/57" TargetMode="External"/><Relationship Id="rId16" Type="http://schemas.openxmlformats.org/officeDocument/2006/relationships/hyperlink" Target="http://nanodigest.ru/content/view/1186/57" TargetMode="External"/><Relationship Id="rId17" Type="http://schemas.openxmlformats.org/officeDocument/2006/relationships/hyperlink" Target="http://www.hr-portal.ru/" TargetMode="External"/><Relationship Id="rId18" Type="http://schemas.openxmlformats.org/officeDocument/2006/relationships/hyperlink" Target="http://www.hr-portal.ru/article/sovremennye-vidy-reklamy-posobie-dlya-lyubopytnykh" TargetMode="External"/><Relationship Id="rId19" Type="http://schemas.openxmlformats.org/officeDocument/2006/relationships/hyperlink" Target="http://www.hr-portal.ru/article/sovremennye-vidy-reklamy-posobie-dlya-lyubopytnykh" TargetMode="External"/><Relationship Id="rId20" Type="http://schemas.openxmlformats.org/officeDocument/2006/relationships/hyperlink" Target="http://www.hr-portal.ru/article/sovremennye-vidy-reklamy-posobie-dlya-lyubopytnykh" TargetMode="External"/><Relationship Id="rId21" Type="http://schemas.openxmlformats.org/officeDocument/2006/relationships/hyperlink" Target="http://www.hr-portal.ru/article/sovremennye-vidy-reklamy-posobie-dlya-lyubopytnykh" TargetMode="External"/><Relationship Id="rId22" Type="http://schemas.openxmlformats.org/officeDocument/2006/relationships/hyperlink" Target="http://www.hr-portal.ru/article/sovremennye-vidy-reklamy-posobie-dlya-lyubopytnykh" TargetMode="External"/><Relationship Id="rId23" Type="http://schemas.openxmlformats.org/officeDocument/2006/relationships/hyperlink" Target="http://www.hr-portal.ru/article/sovremennye-vidy-reklamy-posobie-dlya-lyubopytnykh" TargetMode="External"/><Relationship Id="rId24" Type="http://schemas.openxmlformats.org/officeDocument/2006/relationships/hyperlink" Target="http://www.hr-portal.ru/article/sovremennye-vidy-reklamy-posobie-dlya-lyubopytnykh" TargetMode="External"/><Relationship Id="rId2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uatk.ru/" TargetMode="External"/><Relationship Id="rId3" Type="http://schemas.openxmlformats.org/officeDocument/2006/relationships/hyperlink" Target="http://www.gorobzor.ru/" TargetMode="External"/><Relationship Id="rId4" Type="http://schemas.openxmlformats.org/officeDocument/2006/relationships/hyperlink" Target="http://www.gorobzor.ru/org/obrazovanie-v-ufe/ufimskiy-avtotransportnyy-kolledzh" TargetMode="External"/><Relationship Id="rId5" Type="http://schemas.openxmlformats.org/officeDocument/2006/relationships/hyperlink" Target="http://www.gorobzor.ru/org/obrazovanie-v-ufe/ufimskiy-avtotransportnyy-kolledzh" TargetMode="External"/><Relationship Id="rId6" Type="http://schemas.openxmlformats.org/officeDocument/2006/relationships/hyperlink" Target="http://www.gorobzor.ru/org/obrazovanie-v-ufe/ufimskiy-avtotransportnyy-kolledzh" TargetMode="External"/><Relationship Id="rId7" Type="http://schemas.openxmlformats.org/officeDocument/2006/relationships/hyperlink" Target="http://www.gorobzor.ru/org/obrazovanie-v-ufe/ufimskiy-avtotransportnyy-kolledzh" TargetMode="External"/><Relationship Id="rId8" Type="http://schemas.openxmlformats.org/officeDocument/2006/relationships/hyperlink" Target="http://www.gorobzor.ru/org/obrazovanie-v-ufe/ufimskiy-avtotransportnyy-kolledzh" TargetMode="External"/><Relationship Id="rId9" Type="http://schemas.openxmlformats.org/officeDocument/2006/relationships/hyperlink" Target="http://www.gorobzor.ru/org/obrazovanie-v-ufe/ufimskiy-avtotransportnyy-kolledzh" TargetMode="External"/><Relationship Id="rId10" Type="http://schemas.openxmlformats.org/officeDocument/2006/relationships/hyperlink" Target="http://www.gorobzor.ru/org/obrazovanie-v-ufe/ufimskiy-avtotransportnyy-kolledzh" TargetMode="External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Шаблон (фон) презентации &quot;Универсальный&quot;-1"/>
          <p:cNvPicPr/>
          <p:nvPr/>
        </p:nvPicPr>
        <p:blipFill>
          <a:blip r:embed="rId1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133720" y="42667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Verdana"/>
              </a:rPr>
              <a:t>Дисциплина Экономика отрасли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Verdana"/>
              </a:rPr>
              <a:t>Раздел Маркетинг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Verdana"/>
              </a:rPr>
              <a:t>Для специальности 08.02.05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Verdana"/>
              </a:rPr>
              <a:t>Разработала преподаватель ГБПОУ УАТК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Verdana"/>
              </a:rPr>
              <a:t>Онищик О. Р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43000" y="1295280"/>
            <a:ext cx="62485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кла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Ожидаемый результат.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ыполнив данный веб - квест вы узнает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историю развития реклам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юридические аспекты рекламной деятель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виды реклам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этапы разработки реклам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виды рекламных обращений на телевидень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Результат рабо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Итоговая работа должна быть представлена в виде презентации, где будут содержаться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ответы по вашему заданию и иллюстрации к ни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расчеты стоимости вариантов наружной реклам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670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Познакомиться с критериями оценивания ваших презентаций можно на странице  Критерии оцен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Историк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дготовить презентацию и выступление на тему: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История развития реклам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по следующему плану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клама в древние 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ервая печатная рекла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клама в России до 1917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оветская рекла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ервый рекламный ролик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елерекла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Информационные ресурсы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икипедия / Рекла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икипедия / Реклама/ Портал: рекла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referater.ru›works/129/6720.html– реклама в Западной Европ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udocs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xda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m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лекция: Реклама в СМИ: исторические этапы развития и взаимодейств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Ожидаемый результат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в данный квест, Вы узнаете: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историю развития рекламы от древних времен до наших дней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сравните рекламные обращения на протяжении 100лет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каковы основные факторы формирования и развития рекламной культуры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знакомьтесь с критериями  оценки Вашей работы на страниц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Критерии оценки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Юрист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Определить правовое поле рекламной деятельности, ответив на следующие вопросы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Общие требования к рекла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Защита несовершеннолетних в рекла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Товары, реклама которых не допускае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Ответственность за нарушение законодательства Российской Федерации о рекла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Работу оформить на 4-5 слайда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Информационные ресурсы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zakonrf.info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›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Федеральный закон о реклам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(Глава1. Статьи: 5, 6,7. Глава 5. Статья 38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Википедия / Реклама / Регулирова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Verdana"/>
              </a:rPr>
              <a:t>Ожидаемый</a:t>
            </a:r>
            <a:r>
              <a:rPr b="1" lang="en-US" sz="40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8080"/>
                </a:solidFill>
                <a:latin typeface="Verdana"/>
              </a:rPr>
              <a:t>результат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339966"/>
                </a:solidFill>
                <a:latin typeface="Verdana"/>
              </a:rPr>
              <a:t>Выполнив данный веб - квест, Вы узнаете: </a:t>
            </a:r>
            <a:br>
              <a:rPr sz="2800"/>
            </a:br>
            <a:r>
              <a:rPr b="0" lang="ru-RU" sz="2800" spc="-1" strike="noStrike">
                <a:solidFill>
                  <a:srgbClr val="339966"/>
                </a:solidFill>
                <a:latin typeface="Verdana"/>
              </a:rPr>
              <a:t>- почему необходимо правовое регулирование рекламной деятельности; </a:t>
            </a:r>
            <a:br>
              <a:rPr sz="2800"/>
            </a:br>
            <a:r>
              <a:rPr b="0" lang="ru-RU" sz="2800" spc="-1" strike="noStrike">
                <a:solidFill>
                  <a:srgbClr val="339966"/>
                </a:solidFill>
                <a:latin typeface="Verdana"/>
              </a:rPr>
              <a:t>- законодательные ограничения на отдельные виды рекламы; </a:t>
            </a:r>
            <a:br>
              <a:rPr sz="2800"/>
            </a:br>
            <a:r>
              <a:rPr b="0" lang="ru-RU" sz="2800" spc="-1" strike="noStrike">
                <a:solidFill>
                  <a:srgbClr val="339966"/>
                </a:solidFill>
                <a:latin typeface="Verdana"/>
              </a:rPr>
              <a:t>- почему при распространении  рекламы необходимо соблюдать юридические и этические нормы. 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знакомьтесь с критериями  оценки Вашей работы на страниц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Критерии оцен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05520" y="838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Менеджер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27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В Интернете собрать материал о видах и  цикле создания рекламы.  Представить его на 4-5 слайдах по плану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. Виды рекламы по назначени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Виды исполнения рекламы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. Цикл создания рекламы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Постановка зада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Разработка бюдже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Решение о рекламном обращ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Решение о средствах распространения информ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Выбор конкретных носителей реклам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Принятие решения о графике использования средств реклам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Оценка рекламной программ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Информационные ресурсы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икипедия / Реклам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0520" y="22093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Verdana"/>
              </a:rPr>
              <a:t>Ожидаемый</a:t>
            </a:r>
            <a:r>
              <a:rPr b="1" lang="ru-RU" sz="36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Verdana"/>
              </a:rPr>
              <a:t>результат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в данный квест, Вы узнает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Виды рекламы по назначени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Виды исполнения рекламы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Цикл создания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знакомьтесь с критериями  оценки Вашей работы на страниц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Критерии оценки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Шаблон (фон) презентации &quot;Универсальный&quot;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6699"/>
                </a:solidFill>
                <a:latin typeface="Segoe Script"/>
              </a:rPr>
              <a:t>"Скажи мне, и я забуду,                                                                            Покажи мне, и я запомню,                                                                                   Дай мне действовать самому,                                                                                                                и я научусь."                                                                                              (китайская мудрость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657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Экономист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рабатывает бюджет рекламы, но предварительно определяет принципы, по которым разрабатывается бюдже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боту выполнить по следующему плану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.Методы разработки бюджет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Расчет стоимости изготовления наружной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2" descr="C:\Users\Сергей\Documents\Мои личные документы 2011г\УАТК\Экономика\Фото\bankadan_esnafa_mujde.jpg"/>
          <p:cNvPicPr/>
          <p:nvPr/>
        </p:nvPicPr>
        <p:blipFill>
          <a:blip r:embed="rId1"/>
          <a:stretch/>
        </p:blipFill>
        <p:spPr>
          <a:xfrm rot="547200">
            <a:off x="3886200" y="2743200"/>
            <a:ext cx="5635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Практическое задание №1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ыполнить калькуляцию стоимос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зготовления 4-х баннеров 6*3м и аренды 2-х мест в центре города, 2-х мест не в центре на 2 месяц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тоимость ткани – 220р./м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тоимость печати – 300р./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онтаж с автовышкой – 1200 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онтаж без вышки – 700 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ренда места 20000р./ме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ренда места в центре города – 25000 р./ме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Информационные ресурсы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Википедия / Рекла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Наружная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реклама</a:t>
            </a: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 Уфа: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изготовление</a:t>
            </a: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Preffect.ru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›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production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outdoor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- баннеры в Уфе: печать, изготовление, дизай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www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oberonufa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ru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– расценки на печать  и монтаж баннер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images.yandex.ru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›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рекламные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баннеры</a:t>
            </a: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wiki.mvtom.ru</a:t>
            </a: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›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1"/>
              </a:rPr>
              <a:t>index.php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2"/>
              </a:rPr>
              <a:t>/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3"/>
              </a:rPr>
              <a:t>Баннерная_реклама</a:t>
            </a: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Практическое задание 2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ть калькуляцию стоимос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зготовления и размещения рекламы на автобусе с 2-х  сторон, на 4-х автобусах, на 2 месяц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(выбрать технику исполнения самостоятельно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Информационные ресурсы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www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bashinform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ru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content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bus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- размещение рекламы на автотранспорте, расчет це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Сценарист 1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 Интернете собрать материал о видах рекламных обращений на телевиденье  по указанному плану, привести примеры на 4-6 слайдах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. «Зарисовка с натуры» – использование товара в быт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. Акцентирование образа жизни – товар на фоне престижных автомобилей,  интерьер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. Создание фантазийной обстанов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. Создание настроения или образа, косвенное внушени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Представить концепцию рекламы «УАТК – лучший колледж!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701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Информационные ресурсы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иды телерекламы  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advesti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ru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›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publish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video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tvrec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2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 подробное описание видов телерекламы, сравнительные таблицы с другими видами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елереклама: Нанотехнологии 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1"/>
              </a:rPr>
              <a:t>nanodigest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2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3"/>
              </a:rPr>
              <a:t>ru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›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4"/>
              </a:rPr>
              <a:t>content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5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6"/>
              </a:rPr>
              <a:t>view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7"/>
              </a:rPr>
              <a:t>/1186/57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краткая характеристика видов теле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временные виды рекламы: пособие для любопытных.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8"/>
              </a:rPr>
              <a:t>hr-portal.ru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›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9"/>
              </a:rPr>
              <a:t>article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0"/>
              </a:rPr>
              <a:t>/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1"/>
              </a:rPr>
              <a:t>sovremennye-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2"/>
              </a:rPr>
              <a:t>vidy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3"/>
              </a:rPr>
              <a:t>-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4"/>
              </a:rPr>
              <a:t>reklamy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5"/>
              </a:rPr>
              <a:t>…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Десять правил теле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Сценарист 2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В Интернете собрать материал о видах рекламных обращений на телевиденье  по плану, привести примеры на 4-6 слайдах и передать их для презентаци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. Использование символических персонаж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2. Акцент на технический и профессиональный опыт производител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3. Использование данных научного характе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4. Использование свидетельств потребителей в пользу товар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Представить концепцию рекламы «Никотину – БОЙ!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Информационные ресурсы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иды телерекламы  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advesti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ru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›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publish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video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tvrec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2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 подробное описание видов телерекламы, сравнительные таблицы с другими видами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елереклама: Нанотехнологии 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nanodigest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1"/>
              </a:rPr>
              <a:t>.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2"/>
              </a:rPr>
              <a:t>ru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›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3"/>
              </a:rPr>
              <a:t>content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4"/>
              </a:rPr>
              <a:t>/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5"/>
              </a:rPr>
              <a:t>view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6"/>
              </a:rPr>
              <a:t>/1186/57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краткая характеристика видов телереклам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временные виды рекламы: пособие для любопытных.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7"/>
              </a:rPr>
              <a:t>hrportal.ru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›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8"/>
              </a:rPr>
              <a:t>article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9"/>
              </a:rPr>
              <a:t>/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0"/>
              </a:rPr>
              <a:t>sovremennye-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1"/>
              </a:rPr>
              <a:t>vidy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2"/>
              </a:rPr>
              <a:t>-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3"/>
              </a:rPr>
              <a:t>reklamy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4"/>
              </a:rPr>
              <a:t>…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Десять правил теле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Режиссер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1. Оформляет титульный слайд презент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. Составляет план последовательности слайдов в соответствии с планом темы занятия «Реклама»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Verdana"/>
              </a:rPr>
              <a:t>1. Понятие о рекламе. Закон о реклам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Verdana"/>
              </a:rPr>
              <a:t>2. Виды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Verdana"/>
              </a:rPr>
              <a:t>3. Цикл создания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Verdana"/>
              </a:rPr>
              <a:t>4. Телевизионная рекла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Verdana"/>
              </a:rPr>
              <a:t>5. Разработка бюджета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Verdana"/>
              </a:rPr>
              <a:t>6. Примеры социальной рекламы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Verdana"/>
              </a:rPr>
              <a:t>3. Монтирует слай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Verdana"/>
              </a:rPr>
              <a:t>4. Применяет спецэффект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Verdana"/>
              </a:rPr>
              <a:t>5. Указывает источники информаци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Verdana"/>
              </a:rPr>
              <a:t>Представляет итоговую презентацию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нформационные ресурсы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грамма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wer Poi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Изучить роль рекламы, как элемента маркетинга, используя ресурсы Интернета и создать урок-презентацию по теме «Реклама».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057400" y="838080"/>
            <a:ext cx="525780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занят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Дизайнер 1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ть макет рекламы «УАТК – лучший колледж!», используя  свои творческие способности и ресурсы Интернет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нформационные ресурсы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http://www.uatk.ru/?PAGEN_1=3-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"Уфимский автотранспортный колледж"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gorobzor.ru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›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org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…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ufimskiy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-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avtotransportnyy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-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kolledzh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-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фимский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втотранспортный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олледж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Verdana"/>
              </a:rPr>
              <a:t>Описание критериев и параметров оценки веб-квеста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75632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ние задан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Работа демонстрирует точное понимание задания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ключаются как материалы, имеющие непосредственное отношение к теме, так и материалы, не имеющие отношения к ней; используется ограниченное количество источников.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ключены материалы, не имеющие непосредственного отношения к теме; используется один источник, собранная информация не анализируется и не оценивается.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Оцениваются работы разных периодов; выводы аргументированы; все материалы имеют непосредственное отношение к теме; источники цитируются правильно; используется информация из достоверных источников.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Не вся информация взята из достоверных источников; часть информации неточна или не имеет прямого отношения к теме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Случайная подборка материалов; информация неточна или не имеет отношения к теме; неполные ответы на вопросы; не делаются попытки оценить или проанализировать информацию.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42800" y="103320"/>
          <a:ext cx="8244000" cy="4703760"/>
        </p:xfrm>
        <a:graphic>
          <a:graphicData uri="http://schemas.openxmlformats.org/drawingml/2006/table">
            <a:tbl>
              <a:tblPr/>
              <a:tblGrid>
                <a:gridCol w="2060640"/>
                <a:gridCol w="2062080"/>
                <a:gridCol w="2060640"/>
                <a:gridCol w="2060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6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зультат работ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еткое и логичное представление информации; вся информации имеет непосредственное отношение к теме, точна, хорошо структурирована и отредактирована. Демонстрируется критический анализ и оценка материала, определенность позиции.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очность и структурированность информации; привлекательное оформление работы. Недостаточно выражена собственная позиция и оценка информации. Работа похожа на другие ученические работы.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атериал логически не выстроен и подан внешне непривлекательно; не дается четкого ответа на поставленные вопросы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й подхо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ставлены различные подходы к решению проблемы. Работа отличается яркой индивидуальностью и выражает точку зрения микрогруппы.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емонстрируется одна точка зрения на проблему; проводятся сравнения, но не делаются выводов.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удент просто копирует информацию из предложенных источников; нет критического взгляда на проблему; работа мало связана с темой веб-квеста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219320" y="1600200"/>
            <a:ext cx="6400800" cy="20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люч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Результат урока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амостоятельное изучение материала по теме занятия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Развитие ИКТ – компетентности у обучающихся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Развитие информационной культуры педагог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Verdana"/>
              </a:rPr>
              <a:t>Страница преподавател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анный веб - квест предлагается для обучающихся средне - специальных учебных заведений  при изучении  дисциплины Экономика организации, раздел «Основы маркетинга». Веб -квест рассчитан на одно занятие  или может быть использован для внеаудиторной самостоятельной работы обучающих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лл БРЭББС, перевод Ольги КОРЧАЖКИНОЙ «ИКТ в образовании» №9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drug12.ucoz.ru/index/veb_kvest/0-5 - сайт учителя начальных классов Воробьёвой Любови Леонидовны МБОУ города Кургана "Лицей №12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Verdana"/>
              </a:rPr>
              <a:t>Воспитательные цели: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развитие познавательного интереса, эстетического вкуса, усиление познавательной мотивации осознанием обучающегося своей значимости в коллективном деле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Развивающие цели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— развитие логического мышления, памяти, внимательности, умения работать в сети Интернет,  правильно выбирать источники дополнительной информ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Шаблон (фон) презентации &quot;Универсальный&quot;-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ступл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дач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ол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це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ритерии оцен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ключ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траница преподавател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Verdana"/>
              </a:rPr>
              <a:t>Веб-квест (</a:t>
            </a: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webquest</a:t>
            </a:r>
            <a:r>
              <a:rPr b="0" lang="ru-RU" sz="2000" spc="-1" strike="noStrike">
                <a:solidFill>
                  <a:srgbClr val="990099"/>
                </a:solidFill>
                <a:latin typeface="Verdana"/>
              </a:rPr>
              <a:t>) – проблемное задание с элементами ролевой игры для выполнения которого используются информационные ресурсы Интерне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552840" cy="293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26960" y="1806480"/>
            <a:ext cx="469188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4280" tIns="0" bIns="572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e6f70"/>
                </a:solidFill>
                <a:latin typeface="Arial"/>
              </a:rPr>
              <a:t>Изображения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:</a:t>
            </a:r>
            <a:br>
              <a:rPr sz="11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9200" spc="-1" strike="noStrike">
                <a:solidFill>
                  <a:srgbClr val="0066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Вступление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Ежедневно мы встречаемся с разнообразными видами рекламы: на улице от огромных баннеров до маленьких листовок, по телевиденью навязчиво прерываются фильмы и передачи, в почтовых ящиках нас ждут газеты, заполненные рекламой. Но, как бы  обширна и разнообразна не была надводная часть айсберга под названием «Реклама»,  большая часть его не видна рядовым  потребителям. Наша задача на этом занятии проникнуть  в секреты рекламного бизнес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Verdana"/>
              </a:rPr>
              <a:t>Задач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Собрать материал по плану занят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Ознакомиться с видами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Изучить этапы создания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Научиться рассчитывать затраты на изготовление и размещение рекла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Создать единую презентацию, предварительно оценив выполнение каждой составляющей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Verdana"/>
              </a:rPr>
              <a:t>Выполнить макеты социальной рекламы по заданию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24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Рол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 нашем исследовании будут участвова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тори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Юрис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енеджер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Экономис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ценарис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изайне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жиссе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533160"/>
            <a:ext cx="82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роцесс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аждый из специалистов получит задание и план действий для поиска необходимой информации в Интернете. Для более эффективной работы у каждого будет один или два помощника. За 20-30 минут вы подготовите 4-5 слайдов презентации, режиссер смонтирует в одну презентацию-урок по теме «Реклама» и вы оцените результаты работы других специалистов по заданным критериям, а также узнаете  все этапы разработки рекламы.  Наши дизайнеры представят макет рекламы на тему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УАТК – лучший колледж! – и вы оцените их работ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заключении занятия выполните 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 разделу «Маркетинг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2-26T13:02:5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