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0F15-1037-4F92-B982-01530B961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1FE7-1CC0-4E1D-9D21-095205F11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482A-5E2C-42A9-AF95-AC3F6CE92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AA48-0561-4A8C-B344-F29902285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28AC8-DA02-483D-8942-2551959F4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B06F8-78CB-47D6-9A9B-A6536B350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FE995-EDE8-4D69-AAD8-21D319E8D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F041E-A324-4261-8709-9F4949F5F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B5918-4451-424B-9DE3-A52AF1408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ED13B-4B91-4EC0-8C0A-2F8DEC710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396D6-4407-4C19-AC5F-7DB65D910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155F-8826-4EDD-831F-10D87CC71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55FD7-DE71-4134-BB64-76364BDBE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5BD60-0025-4D7A-AE80-7B32BA3D0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56FE2-5863-44A3-B1C3-1AB299D07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E932D-F6F2-4A85-BBB1-890742FE9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E77BE-DFA5-4F0E-9427-234B43557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EA57-EE63-4BEC-BDFE-BD6A0E3B8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A6C1-A85E-412E-979D-202E246FB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1FD1-1947-4C2D-BD25-1F047DD9E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9DB3-BA05-48EE-A57C-779D2554A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9324-B548-413B-A6B3-E99F4A868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87A3-C7DF-4542-BD80-DC4869E72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496D-83AE-4266-926E-E4CF94054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68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48627a"/>
              </a:gs>
              <a:gs pos="100000">
                <a:srgbClr val="53718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466886"/>
                </a:gs>
                <a:gs pos="100000">
                  <a:srgbClr val="53718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53718c"/>
                  </a:gs>
                  <a:gs pos="100000">
                    <a:srgbClr val="4b667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4b667e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53718c"/>
                  </a:gs>
                  <a:gs pos="100000">
                    <a:srgbClr val="4d698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506d87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53718c"/>
                  </a:gs>
                  <a:gs pos="100000">
                    <a:srgbClr val="4d698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d6983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65f7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862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667e"/>
                  </a:gs>
                  <a:gs pos="100000">
                    <a:srgbClr val="53718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8627a"/>
                  </a:gs>
                  <a:gs pos="100000">
                    <a:srgbClr val="53718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4d6983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53718c"/>
                  </a:gs>
                  <a:gs pos="100000">
                    <a:srgbClr val="48627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48627a"/>
                  </a:gs>
                  <a:gs pos="100000">
                    <a:srgbClr val="53718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53718c"/>
                  </a:gs>
                  <a:gs pos="100000">
                    <a:srgbClr val="4b667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48627a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4d6983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48627a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4b667e"/>
                  </a:gs>
                  <a:gs pos="100000">
                    <a:srgbClr val="53718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4b667e"/>
                  </a:gs>
                  <a:gs pos="100000">
                    <a:srgbClr val="53718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667e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65f76"/>
                  </a:gs>
                  <a:gs pos="100000">
                    <a:srgbClr val="53718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667e"/>
                  </a:gs>
                  <a:gs pos="100000">
                    <a:srgbClr val="53718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35c7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5371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5371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862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862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862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5371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748f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748f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7892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d698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d698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d698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d698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5371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58748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748f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748f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53718c"/>
                  </a:gs>
                  <a:gs pos="100000">
                    <a:srgbClr val="4d698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58748f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53718c"/>
                  </a:gs>
                  <a:gs pos="100000">
                    <a:srgbClr val="4d698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4d6983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53718c"/>
                  </a:gs>
                  <a:gs pos="100000">
                    <a:srgbClr val="4d698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506d87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668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668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668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668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66886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66886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668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6886"/>
                    </a:gs>
                    <a:gs pos="100000">
                      <a:srgbClr val="53718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718c"/>
                    </a:gs>
                    <a:gs pos="100000">
                      <a:srgbClr val="46688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6886"/>
                    </a:gs>
                    <a:gs pos="100000">
                      <a:srgbClr val="53718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718c"/>
                    </a:gs>
                    <a:gs pos="100000">
                      <a:srgbClr val="46688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371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97cf2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F97AF-DCFC-415C-ADB6-23BECEE3A6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68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466886"/>
                </a:gs>
                <a:gs pos="100000">
                  <a:srgbClr val="53718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53718c"/>
                  </a:gs>
                  <a:gs pos="100000">
                    <a:srgbClr val="4b667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4b667e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53718c"/>
                  </a:gs>
                  <a:gs pos="100000">
                    <a:srgbClr val="4d698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506d87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53718c"/>
                  </a:gs>
                  <a:gs pos="100000">
                    <a:srgbClr val="4d698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d6983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65f7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862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667e"/>
                  </a:gs>
                  <a:gs pos="100000">
                    <a:srgbClr val="53718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8627a"/>
                  </a:gs>
                  <a:gs pos="100000">
                    <a:srgbClr val="53718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4d6983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53718c"/>
                  </a:gs>
                  <a:gs pos="100000">
                    <a:srgbClr val="48627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48627a"/>
                  </a:gs>
                  <a:gs pos="100000">
                    <a:srgbClr val="53718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53718c"/>
                  </a:gs>
                  <a:gs pos="100000">
                    <a:srgbClr val="4b667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48627a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4d6983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48627a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4b667e"/>
                  </a:gs>
                  <a:gs pos="100000">
                    <a:srgbClr val="53718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4b667e"/>
                  </a:gs>
                  <a:gs pos="100000">
                    <a:srgbClr val="53718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667e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65f76"/>
                  </a:gs>
                  <a:gs pos="100000">
                    <a:srgbClr val="53718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667e"/>
                  </a:gs>
                  <a:gs pos="100000">
                    <a:srgbClr val="53718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35c7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5371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5371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862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862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862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5371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748f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748f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7892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d698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d698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d698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d698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5371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58748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748f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748f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53718c"/>
                  </a:gs>
                  <a:gs pos="100000">
                    <a:srgbClr val="4d698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58748f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53718c"/>
                  </a:gs>
                  <a:gs pos="100000">
                    <a:srgbClr val="4d698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4d6983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53718c"/>
                  </a:gs>
                  <a:gs pos="100000">
                    <a:srgbClr val="4d698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506d87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668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668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668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668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66886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66886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668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6886"/>
                    </a:gs>
                    <a:gs pos="100000">
                      <a:srgbClr val="53718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718c"/>
                    </a:gs>
                    <a:gs pos="100000">
                      <a:srgbClr val="46688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6886"/>
                    </a:gs>
                    <a:gs pos="100000">
                      <a:srgbClr val="53718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718c"/>
                    </a:gs>
                    <a:gs pos="100000">
                      <a:srgbClr val="46688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6E3A8-80FC-424B-AF47-0159493C24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3718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97cf2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68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000"/>
            <a:ext cx="7772400" cy="26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План Витберга</a:t>
            </a:r>
            <a:br>
              <a:rPr sz="5400"/>
            </a:b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и «</a:t>
            </a:r>
            <a:r>
              <a:rPr b="0" i="1" lang="en-US" sz="4800" spc="-1" strike="noStrike">
                <a:solidFill>
                  <a:srgbClr val="ccecff"/>
                </a:solidFill>
                <a:latin typeface="Arial"/>
              </a:rPr>
              <a:t>Онегинская строфа» А.С.Пушкина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5229000"/>
            <a:ext cx="64008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бота учителя русского языка и литератур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АОУ «Лицей №4» г. Чебоксары – столицы Чувашской Республи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амохваловой Светланы Валентиновн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68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Онегинская строфа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 - явление барокко ( линия и число для барокко - такое же высказывание, как и слово; они значимы, идеологичны)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графику строфы Пушкин заложил проект Витберга храма Спасителя на Воробьевых горах ( ответ поэта на жест архитектора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 Пушкина есть рисунок, геометрический чертеж, который странно совпадает с планом храма ( вид сверху) . Тот же самый чертеж нашел отражение и в строфе. Числа и линии, арабские цифры и дали композицию онегинской строфе, в которой соединились низ, середина и верх храма: тело, гроб, крест, купол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" Как весело стихи сво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ести под цифрами, в порядке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трой за строем", - так писал Пушкин о работе над романом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68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68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68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знайте, какие еще проекты строительства Храма Христа Спасителя были представлены на конкурс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ставьте схемы 3-4 «онегинских» строф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68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Использованные интернет-ресурсы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https://ru.wikipedia.org/wik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http://vyatkawalks.ru/wiki/aleksandr-vitberg/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www.proza.ru/2014/07/03/157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https://dic.academic.ru/dic.nsf/ruwiki/584087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68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План урок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стория создания Храма Христа Спасител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лександр (Карл) Витберг – победитель международного конкурса проектов храм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…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«не храм вообще, но христианская фраза, текст христианский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негинская строф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- явление барокко: линия и число для барокко - такое же высказывание, как и слов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твет поэта на жест архитектор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68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Храм Христа Спасител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504360" y="1655280"/>
            <a:ext cx="403236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Первый храм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был построен в благодарность Богу за спасение России от наполеоновского нашествия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в сохранение вечной памяти того беспримерного усердия, верности и любви к Вере и Отечеству, какими в сии трудные времена превознес себя народ российский, и в ознаменование благодарности Нашей к Промыслу Божию, спасшему Россию от грозившей ей гибели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" descr="Храму Христа Спасителя потребовался ремонт - News.FlexCom.ru"/>
          <p:cNvPicPr/>
          <p:nvPr/>
        </p:nvPicPr>
        <p:blipFill>
          <a:blip r:embed="rId1"/>
          <a:stretch/>
        </p:blipFill>
        <p:spPr>
          <a:xfrm>
            <a:off x="324000" y="1844640"/>
            <a:ext cx="446544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68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0" y="764640"/>
            <a:ext cx="8229600" cy="452628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О выставке"/>
          <p:cNvPicPr/>
          <p:nvPr/>
        </p:nvPicPr>
        <p:blipFill>
          <a:blip r:embed="rId2"/>
          <a:stretch/>
        </p:blipFill>
        <p:spPr>
          <a:xfrm>
            <a:off x="0" y="0"/>
            <a:ext cx="1011708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68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316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1814г. прошел международный открытый конкурс, в котором одержал победу, к удивлению большинства, проект 28-летнего Карла Магнуса Витберга, художника (даже не архитектора), масона и лютеранина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лександр Витберг писал: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Я понимал, что этот храм должен быть величественен и колоссален, должен перевесить, наконец, славу храма Петра в Риме.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длежало, чтоб каждый камень его и все вместе были говорящими идеями религии Христа, чтоб это была не груда камней, искусным образом расположенная; не храм вообще, но христианская фраза, текст христианский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297000" y="620640"/>
            <a:ext cx="452736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68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Храм Христа Спасителя на Воробьевых горах - О русском воровстве и мздоимстве"/>
          <p:cNvPicPr/>
          <p:nvPr/>
        </p:nvPicPr>
        <p:blipFill>
          <a:blip r:embed="rId2"/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68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25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Несмотря на свой возраст Витберг создал действительно гениальный проект. Лучшее его описание оставил Александр Иванович Герцен:</a:t>
            </a:r>
            <a:br>
              <a:rPr sz="28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362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ижний храм, иссеченный в горе, имел форму параллелограмма, гроба, тела; его наружность представляла тяжелый портал, поддерживаемый почти египетскими колоннами; он пропадал в горе, в дикой необработанной природе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невной свет скудно падал в него из второго храма, проходя сквозь прозрачный образ Рождества. В этой крипте должны были покоиться все герои, павшие в 1812 году, вечная панихида должна была служиться о убиенных на поле битвы, по стенам должны были быть иссечены имена всех их, от полководцев до рядовых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а этом гробе, на этом кладбище разбрасывается во все стороны равноконечный греческий крест второго храма — храма распростертых рук, жизни, страданий, труд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олоннада, ведущая к нему, была украшена статуями ветхозаветных лиц. При входе стояли пророки. Они стояли вне храма, указывая путь, по которому им идти не пришлось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нутри этого храма были вся евангельская история и история апостольских деяний. Над ним, венчая его, оканчивая и заключая, был третий храм в виде ротонды. Этот храм, ярко освещенный, был храм духа, невозмущаемого покоя, вечности, выражавшейся кольцеобразным его планом. Тут не было ни образов, ни изваяний, только снаружи он был окружен венком архангелов и накрыт колоссальным куполом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68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2" name="" descr="ЭХО Москвы - Страница 12 - Литература, обзоры, пресса - Testing"/>
          <p:cNvPicPr/>
          <p:nvPr/>
        </p:nvPicPr>
        <p:blipFill>
          <a:blip r:embed="rId1"/>
          <a:stretch/>
        </p:blipFill>
        <p:spPr>
          <a:xfrm>
            <a:off x="0" y="0"/>
            <a:ext cx="9144000" cy="68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68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277920"/>
            <a:ext cx="8147160" cy="15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ecff"/>
                </a:solidFill>
                <a:latin typeface="Arial"/>
              </a:rPr>
              <a:t>Вы заставили говорить камни!</a:t>
            </a:r>
            <a:br>
              <a:rPr sz="44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Император Александр I был в восторге от проекта, и даже писал Витбергу:</a:t>
            </a:r>
            <a:br>
              <a:rPr sz="2000"/>
            </a:b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Вы заставили говорить камни!</a:t>
            </a:r>
            <a:br>
              <a:rPr sz="2400"/>
            </a:b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Для утверждения проекта архитектор крестился в Православие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о сравнению с современным, храм Витберга был в три раза больше, включал Пантеон погибших, колоннаду из 600 колонн и пирамиду из трофейных пушек, а также памятники монархам и видным полководцам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 первом построенном храме не удалось воплотить эти идеи: ни пирамиду, ни памятники полководцам. Причем трофейные пушки свозились в Москву, но так и остались лежать возле стен Арсенал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11T20:58:29Z</dcterms:created>
  <dc:creator>Петрова</dc:creator>
  <dc:description/>
  <dc:language>en-US</dc:language>
  <cp:lastModifiedBy>Aser</cp:lastModifiedBy>
  <dcterms:modified xsi:type="dcterms:W3CDTF">2019-04-26T16:08:54Z</dcterms:modified>
  <cp:revision>28</cp:revision>
  <dc:subject/>
  <dc:title>План Виттенберга</dc:title>
</cp:coreProperties>
</file>