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FE85-A24B-4953-89B2-C64C8E224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7D4A-1E29-4DCB-89E6-177DDE1CF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394-F8D9-415C-A77D-99A946F5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CD9-20ED-4281-9F94-976401C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B4D-3E4C-4992-B055-07DBC28D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024-E5F8-45C8-99BC-968ECEBC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A14-CE99-41A7-9F2E-854333AD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B22-4404-4E1E-ADBC-469B61B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2A2-C7A2-4E5B-8C9D-A14CD25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560-D5E9-4342-A10A-8C23BA2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C29-2FB8-4B69-950E-6CE8842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74B-A216-44F4-972C-87234E5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A5F-FDC5-421F-B0F6-CDB9FE5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6B8-F2C6-4B39-9BA4-3F56C5E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01F-F3E3-4BA9-97FE-0A2C11850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600200" y="129528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бщение детей дошкольного возраста к дидактической игре «Шахма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95280" y="54100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1"/>
          <p:cNvPicPr/>
          <p:nvPr/>
        </p:nvPicPr>
        <p:blipFill>
          <a:blip r:embed="rId2"/>
          <a:stretch/>
        </p:blipFill>
        <p:spPr>
          <a:xfrm>
            <a:off x="380880" y="380880"/>
            <a:ext cx="2514600" cy="388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2"/>
          <p:cNvPicPr/>
          <p:nvPr/>
        </p:nvPicPr>
        <p:blipFill>
          <a:blip r:embed="rId3"/>
          <a:stretch/>
        </p:blipFill>
        <p:spPr>
          <a:xfrm>
            <a:off x="6248520" y="380880"/>
            <a:ext cx="259056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666880" y="3733920"/>
            <a:ext cx="4114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ли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лаг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ядом с ферз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14"/>
          <p:cNvPicPr/>
          <p:nvPr/>
        </p:nvPicPr>
        <p:blipFill>
          <a:blip r:embed="rId2"/>
          <a:stretch/>
        </p:blipFill>
        <p:spPr>
          <a:xfrm>
            <a:off x="1981080" y="60948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990720" y="5029200"/>
            <a:ext cx="7238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шки - эти фигуры выставляю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торым рядом перед другими фигур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609480" y="38088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 вида спорта не нужны ни стадионы, ни специально оборудованные помещения, были бы шахматные фигуры да доска, пускай и самая простая, карт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, куда можно ее положить, пусть это будет  столик, чемодан или пень, и место для турнира готов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11"/>
          <p:cNvGrpSpPr/>
          <p:nvPr/>
        </p:nvGrpSpPr>
        <p:grpSpPr>
          <a:xfrm>
            <a:off x="304920" y="304920"/>
            <a:ext cx="4143240" cy="3456000"/>
            <a:chOff x="304920" y="304920"/>
            <a:chExt cx="4143240" cy="3456000"/>
          </a:xfrm>
        </p:grpSpPr>
        <p:pic>
          <p:nvPicPr>
            <p:cNvPr id="88" name="Picture 2" descr="http://img-fotki.yandex.ru/get/5312/91085590.18/0_8659e_7e7131c4_XL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41432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рямоугольник 13"/>
            <p:cNvSpPr/>
            <p:nvPr/>
          </p:nvSpPr>
          <p:spPr>
            <a:xfrm>
              <a:off x="304920" y="3411720"/>
              <a:ext cx="414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fotki.yandex.ru/users/n-matutina/view/550302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8"/>
          <p:cNvGrpSpPr/>
          <p:nvPr/>
        </p:nvGrpSpPr>
        <p:grpSpPr>
          <a:xfrm>
            <a:off x="4572000" y="304920"/>
            <a:ext cx="4172040" cy="3456000"/>
            <a:chOff x="4572000" y="304920"/>
            <a:chExt cx="4172040" cy="3456000"/>
          </a:xfrm>
        </p:grpSpPr>
        <p:pic>
          <p:nvPicPr>
            <p:cNvPr id="91" name="Picture 6" descr="http://www.ivgoradm.ru/attaches/getImage%285%29.jpeg"/>
            <p:cNvPicPr/>
            <p:nvPr/>
          </p:nvPicPr>
          <p:blipFill>
            <a:blip r:embed="rId3"/>
            <a:stretch/>
          </p:blipFill>
          <p:spPr>
            <a:xfrm>
              <a:off x="4572000" y="304920"/>
              <a:ext cx="41720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Прямоугольник 10"/>
            <p:cNvSpPr/>
            <p:nvPr/>
          </p:nvSpPr>
          <p:spPr>
            <a:xfrm>
              <a:off x="4645800" y="3351600"/>
              <a:ext cx="29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eisberg.narod.ru/ivanovo-ru.h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04920" y="533520"/>
            <a:ext cx="8534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ь шахматных состязаний отличается от любого другого зрителя. Он активен и творит наравне с игроками. Он не просто наблюдает, он вместе с играющими обдумывает положение и принимает решение, какой надо делать 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2"/>
          <p:cNvGrpSpPr/>
          <p:nvPr/>
        </p:nvGrpSpPr>
        <p:grpSpPr>
          <a:xfrm>
            <a:off x="534960" y="228600"/>
            <a:ext cx="7999560" cy="5791320"/>
            <a:chOff x="534960" y="228600"/>
            <a:chExt cx="7999560" cy="5791320"/>
          </a:xfrm>
        </p:grpSpPr>
        <p:pic>
          <p:nvPicPr>
            <p:cNvPr id="97" name="Picture 4" descr="http://volgodonsk.ucoz.net/_nw/7/s34261440.jpg"/>
            <p:cNvPicPr/>
            <p:nvPr/>
          </p:nvPicPr>
          <p:blipFill>
            <a:blip r:embed="rId2"/>
            <a:stretch/>
          </p:blipFill>
          <p:spPr>
            <a:xfrm>
              <a:off x="668160" y="228600"/>
              <a:ext cx="7866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Прямоугольник 4"/>
            <p:cNvSpPr/>
            <p:nvPr/>
          </p:nvSpPr>
          <p:spPr>
            <a:xfrm>
              <a:off x="534960" y="5331240"/>
              <a:ext cx="303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volgodonsk.ucoz.net/news/1-0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80880" y="304920"/>
            <a:ext cx="83059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е одна причина популярности шахмат в том, что языковых барьеров для шахматистов не существует. На всех языках мира фигуры по шахматной дос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вигаются 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Группа 4"/>
          <p:cNvGrpSpPr/>
          <p:nvPr/>
        </p:nvGrpSpPr>
        <p:grpSpPr>
          <a:xfrm>
            <a:off x="838080" y="762120"/>
            <a:ext cx="7543800" cy="5333760"/>
            <a:chOff x="838080" y="762120"/>
            <a:chExt cx="7543800" cy="5333760"/>
          </a:xfrm>
        </p:grpSpPr>
        <p:pic>
          <p:nvPicPr>
            <p:cNvPr id="103" name="Picture 2" descr="http://files.myopera.com/Nebelinger/albums/21188/tw0_niggaz_play_chez.jpg"/>
            <p:cNvPicPr/>
            <p:nvPr/>
          </p:nvPicPr>
          <p:blipFill>
            <a:blip r:embed="rId2"/>
            <a:stretch/>
          </p:blipFill>
          <p:spPr>
            <a:xfrm>
              <a:off x="838080" y="762120"/>
              <a:ext cx="7543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3"/>
            <p:cNvSpPr/>
            <p:nvPr/>
          </p:nvSpPr>
          <p:spPr>
            <a:xfrm>
              <a:off x="838080" y="5691240"/>
              <a:ext cx="75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my.opera.com/Nebelinger/blog/index.dml/tag/Toro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371600" y="914400"/>
            <a:ext cx="71629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хматы — древнейшая логическая настольная игра со специальными фигурами на 64-клеточной доске, сочетающая в себе элементы искусства (в части шахматной композиции), науки и 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игры берёт начало из персидского языка: шах и мат, что значит король (шах) умер (ма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111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57200" y="380880"/>
            <a:ext cx="83818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ахматы могут играть группы игроков, друг против друга или против одного игрока. Игра подчиняется определённым правилам, которые дополняются правилами  при проведении турн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ть можно  по переписке, по телефону, в Интернете и, конечно же, на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1337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игры в шахматы нуж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3"/>
          <p:cNvPicPr/>
          <p:nvPr/>
        </p:nvPicPr>
        <p:blipFill>
          <a:blip r:embed="rId2"/>
          <a:stretch/>
        </p:blipFill>
        <p:spPr>
          <a:xfrm>
            <a:off x="2209680" y="609480"/>
            <a:ext cx="495324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ные фигуры: белые и ч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80880" y="7621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ановка шахматных фигур на шахматной до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4"/>
          <p:cNvPicPr/>
          <p:nvPr/>
        </p:nvPicPr>
        <p:blipFill>
          <a:blip r:embed="rId2"/>
          <a:stretch/>
        </p:blipFill>
        <p:spPr>
          <a:xfrm>
            <a:off x="2209680" y="205740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133720" y="59436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дья – ставится по угл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5"/>
          <p:cNvPicPr/>
          <p:nvPr/>
        </p:nvPicPr>
        <p:blipFill>
          <a:blip r:embed="rId2"/>
          <a:stretch/>
        </p:blipFill>
        <p:spPr>
          <a:xfrm>
            <a:off x="1600200" y="380880"/>
            <a:ext cx="5486400" cy="4953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58672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и – расстановка коней рядом с ладь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Fol03wVIgC-1280x720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8"/>
          <p:cNvPicPr/>
          <p:nvPr/>
        </p:nvPicPr>
        <p:blipFill>
          <a:blip r:embed="rId3"/>
          <a:stretch/>
        </p:blipFill>
        <p:spPr>
          <a:xfrm>
            <a:off x="6781680" y="60948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7"/>
          <p:cNvPicPr/>
          <p:nvPr/>
        </p:nvPicPr>
        <p:blipFill>
          <a:blip r:embed="rId4"/>
          <a:stretch/>
        </p:blipFill>
        <p:spPr>
          <a:xfrm>
            <a:off x="533520" y="609480"/>
            <a:ext cx="236196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505320" y="609480"/>
            <a:ext cx="28191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н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слонов рядом с ко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5"/>
          <p:cNvPicPr/>
          <p:nvPr/>
        </p:nvPicPr>
        <p:blipFill>
          <a:blip r:embed="rId2"/>
          <a:stretch/>
        </p:blipFill>
        <p:spPr>
          <a:xfrm>
            <a:off x="6172200" y="685800"/>
            <a:ext cx="236232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9"/>
          <p:cNvPicPr/>
          <p:nvPr/>
        </p:nvPicPr>
        <p:blipFill>
          <a:blip r:embed="rId3"/>
          <a:stretch/>
        </p:blipFill>
        <p:spPr>
          <a:xfrm>
            <a:off x="380880" y="609480"/>
            <a:ext cx="3124440" cy="3505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371600" y="3809880"/>
            <a:ext cx="6400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рзи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ереди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оответству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 по цвету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ияз</cp:lastModifiedBy>
  <dcterms:modified xsi:type="dcterms:W3CDTF">2019-06-01T17:39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