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C10-196B-44D1-A71B-A9EEBEAF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DBF-5837-4EA4-979F-E88A056D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3D4-862C-4E4B-92AB-E1A72A02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2DE-300B-4B06-AC30-483565DC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FBF2-E100-44A2-AC6E-C02CFD06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6114-6B13-4F2A-A0CB-D56B1517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9BD0-9C15-41FF-87C5-F93B7512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2C59-1351-4723-B818-4B65E0A9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15BD-7FB0-41C6-92E8-320C7AB6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0CFA-8DA3-4A6B-AD60-9E8F9F2C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5B60-CC36-4949-B3D6-7A9D77A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B69-C7F0-4318-B5E9-5C1FF794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CFEB-7464-4A66-A550-A83729D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D0BB-54FE-4A86-A060-D7C64701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A79E-2AF8-46AD-8ECE-98DAE4B5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EF5C-067A-4E1F-8B70-B0629D2E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F21C-EE0E-42EE-964A-AE07A0AA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2D0F-FCD5-427C-9AE8-933F553D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C342-D203-4E6C-BDBE-6F64D227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96F4-8595-40A2-8B0D-D07CAD1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DEEF-48D4-4388-ADE7-E0FE2117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8492-A4B4-43CB-A749-5BDB051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B98-B9CB-4B52-9587-ACECD2D9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6662-1061-43EF-96D5-8A475910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AAC8-9410-4051-9867-F22951B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5329-5436-495B-B118-649BB932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E10D-DD34-425E-87EE-FE9ABEC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C63D-471B-4E12-A152-BD8B5FB2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AD94-0286-4CEC-8C9F-D5E62CB2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922A-B58B-42B0-B432-08E7B32A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62D-839D-48FE-9572-7171B94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72C-1F74-4F5C-8DF7-A2E7FC5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7A4-BB21-44CC-B81A-350EA706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B18-68C9-4034-8A49-80C3E72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4DD-0A03-463F-8BEA-0F1B732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69C-5AD4-46D2-80FA-03E9C3B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8F57-9454-456E-B05C-D661AF3817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007D-206F-4E8B-845A-58099DF4E4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784-2B24-431B-8F88-8543D689C4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мич Татьяна Васильев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МБОУ СШ №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Бор Нижегород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й методической разработке представлено теоретическое содержание, включающее способы организации разнообразных игр для уроков математики. В работе сформулированы требования к проведению игр на уроке. Классификация игр дана в зависимости от игровой цели. Также представлены виды дидактических игр. Данный дидактический материал включает разработки игр для применения их на уроках математики с подробным описанием правил организации и проведения, на примере которых можно создавать подобные игры по разным темам курса математики и в разных класс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Из изложенного можно сделать вывод, что математическая игра повышает интерес к предмету, вносит разнообразие и эмоциональную окраску в учебную работу, снимает утомление, развивает внимание, сообрази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Игра дает возможность проявить себя, свои способности, проверить имеющиеся знания, приобрести новые, и все это в необычной занимательной  форме. Использование игр на разных этапах изучения различного по характеру математического материала является эффективным средством активизации познавательной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           </a:t>
            </a:r>
            <a:r>
              <a:rPr b="1" i="1" lang="ru-RU" sz="1800" spc="-1" strike="noStrike">
                <a:solidFill>
                  <a:srgbClr val="cc0066"/>
                </a:solidFill>
                <a:latin typeface="Calibri"/>
              </a:rPr>
              <a:t>Новизна опыта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в усовершенствовании, модернизации и адаптации к конкретным условиям уже известных средств обучения. Использование компьютера значительно облегчает подготовительный процесс и делает восприятие более актив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     </a:t>
            </a:r>
            <a:r>
              <a:rPr b="1" i="1" lang="ru-RU" sz="1800" spc="-1" strike="noStrike">
                <a:solidFill>
                  <a:srgbClr val="cc0066"/>
                </a:solidFill>
                <a:latin typeface="Calibri"/>
              </a:rPr>
              <a:t>Адресная направленность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: опыт по использованию игры как средства развития познавательного интереса может применяться при изучении различных предметов, также использоваться во внеурочное время. Его можно применять в основной и старшей школе всех уровней. Он будет интересен учителям разных специаль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Игра «Му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( 8 класс, тема «Арифметический квадратный корень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Правила игры: составляется таблица 3 × 3 с числами (на слайде или на бумажном носителе). Столбцы и строки подписаны. Задача учащихся следить за движением мухи, которая перелетает с клетки на клетку. Учителем называются только координаты клетки, а число не произносится вслу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Задача  учащихся: вычислить или найти сум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Object 11" descr=""/>
          <p:cNvPicPr/>
          <p:nvPr/>
        </p:nvPicPr>
        <p:blipFill>
          <a:blip r:embed="rId1"/>
          <a:stretch/>
        </p:blipFill>
        <p:spPr>
          <a:xfrm>
            <a:off x="1809720" y="3933720"/>
            <a:ext cx="4589640" cy="2374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7740720" y="6165720"/>
            <a:ext cx="1079280" cy="358920"/>
          </a:xfrm>
          <a:prstGeom prst="leftArrow">
            <a:avLst>
              <a:gd name="adj1" fmla="val 50000"/>
              <a:gd name="adj2" fmla="val 751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Математический лабири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«Лабиринт» -  это несколько заданий, соединенных таким образом, что ответ одного задания служит номером другого. Игра начинается за 15-20 минут до конца урока. В результате решения получается цепочка чисел, по которой, как по ориентиру, ученик (группа) выходит из лабиринта. Перечень таких цепочек – чисел для каждой команды должен быть записан у учителя. Это позволит следить за успешностью прохождения лабиринта отдельными учащимися или коман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Математический лабиринт по теме: «Решение уравнений»,  7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Учащиеся получают бланк с зада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1.                  4  (1 – 0,5а) = -2  (2а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2.                  4  (3 -  х) – 11 = 7 (2х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3.                 –5 (0,8 а + 1,2) = -а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4.                  4 (3х – 8) = 3 (5 – х) +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.5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y/12-3/4=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6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x+2)/3=(2x+3)/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7 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-3,2 в + 2,4 = -2 (1,2в + 2,4)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8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2(7x+21)/7-(3x+6)/3=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9.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1,2 (3х + 5) = 2 (2,4 х – 3,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10.                0,3 (5х – 7) = 3 (0,2х + 3,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11.                0,5у – 0,6 = 0,1у + 0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12.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–3 (2,1х – 4) – 4,2 = 1,2 (-5х + 0,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13.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              x/2=x/3+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Вход в лабири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команда   начинает с уравнения №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команда -                                       № 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команда -                                      №  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Выход из лабиринта:  полученный ответ совпадает с номером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Ключ к лабиринту: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команда:                 8        5        3    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команда:                 7         9       11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6a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команда:               10      13        6 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Побеждает та команда, которая первая пройдет лабири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492360" y="551664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851280" y="551664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4356000" y="551664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3419640" y="5734080"/>
            <a:ext cx="14256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4284720" y="595008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4284720" y="573408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851280" y="573408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3851280" y="5877000"/>
            <a:ext cx="14292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3419640" y="5877000"/>
            <a:ext cx="144360" cy="0"/>
          </a:xfrm>
          <a:prstGeom prst="line">
            <a:avLst/>
          </a:prstGeom>
          <a:ln w="9360">
            <a:solidFill>
              <a:srgbClr val="dbf5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7740720" y="6165720"/>
            <a:ext cx="1079280" cy="358920"/>
          </a:xfrm>
          <a:prstGeom prst="leftArrow">
            <a:avLst>
              <a:gd name="adj1" fmla="val 50000"/>
              <a:gd name="adj2" fmla="val 751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Object 8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252396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«Лот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7570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(8 класс, тема «Квадратные корн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В специальном конверте учащимся предлагается набор карточек. Обычно их больше, чем ответов на большой карте, которая тоже вложена в конверт. Ученик достает из конверта карточку, решает пример и накрывает ею соответствующий ответ. Карточки накладываются лицевой стороной вниз. Если все примеры решены правильно, то обратные стороны составляют какой-то условный шифр: рисунок, чертеж, код (я обычно беру комбинацию цифр). Учитель, проходя по рядам, легко определяет результаты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Ответы :                                                                       К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Использование компьютеров позволяет немного изменить правила игры в ло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a"/>
                </a:solidFill>
                <a:latin typeface="Calibri"/>
              </a:rPr>
              <a:t>Учителю нужно подготовить несколько больших карт, разделенных на прямоугольники с записанными в них ответами, маленькие карточки с шифром и соответственное количество заданий на слайде. Разбить класс на группы по 4-5 человек. Учитель показывает слайд. Та группа, которая обнаружила на большой  карте ответ и считает его правильным, забирает карточку с шифром и накрывает ею соответствующую клеточку шифром вверх. Выигрывает та группа, которая больше всех накрыла 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Object 4" descr=""/>
          <p:cNvPicPr/>
          <p:nvPr/>
        </p:nvPicPr>
        <p:blipFill>
          <a:blip r:embed="rId2"/>
          <a:stretch/>
        </p:blipFill>
        <p:spPr>
          <a:xfrm>
            <a:off x="2496960" y="2276640"/>
            <a:ext cx="321336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6" descr=""/>
          <p:cNvPicPr/>
          <p:nvPr/>
        </p:nvPicPr>
        <p:blipFill>
          <a:blip r:embed="rId3"/>
          <a:stretch/>
        </p:blipFill>
        <p:spPr>
          <a:xfrm>
            <a:off x="1152360" y="4005360"/>
            <a:ext cx="2408400" cy="863640"/>
          </a:xfrm>
          <a:prstGeom prst="rect">
            <a:avLst/>
          </a:prstGeom>
          <a:ln w="0">
            <a:noFill/>
          </a:ln>
        </p:spPr>
      </p:pic>
      <p:sp>
        <p:nvSpPr>
          <p:cNvPr id="183" name="Line 12"/>
          <p:cNvSpPr/>
          <p:nvPr/>
        </p:nvSpPr>
        <p:spPr>
          <a:xfrm>
            <a:off x="2556000" y="4076640"/>
            <a:ext cx="0" cy="720720"/>
          </a:xfrm>
          <a:prstGeom prst="line">
            <a:avLst/>
          </a:prstGeom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3851280" y="4292640"/>
            <a:ext cx="2521080" cy="0"/>
          </a:xfrm>
          <a:prstGeom prst="line">
            <a:avLst/>
          </a:prstGeom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7740720" y="6165720"/>
            <a:ext cx="1079280" cy="358920"/>
          </a:xfrm>
          <a:prstGeom prst="leftArrow">
            <a:avLst>
              <a:gd name="adj1" fmla="val 50000"/>
              <a:gd name="adj2" fmla="val 751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«Пресс-антипрес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У игроков есть перечень вопросов, по которым будет проходить пресс – конференция. На первый ряд предлагается сесть тем, кто оценивает свои знания на «3», на второй ряд – на «4», на третий ряд – на «5». Вопросы также разделены по уровням сложности.  Право отвечать первым всегда предоставляется первому ряду (кто на «3»). Когда возможные варианты ответов с этого уровня прозвучали, право дополнить дается тем, кто сидит на втором, а затем и на третьем ряду. Если кому-то с первого ряда удается ответить на вопрос более сложного уровня  так, что дополнить нечего, то учитель может пересадить его на второй или третий ряд. В зависимости от  степени и качества участия в ответах, учащиеся могут повышать или понижать свой ранг, пересаживаясь по решению учителя. Есть еще одна версия этой игры - идеальный зачет. Он происходит неожиданно для участников. Учащиеся размещаются согласно притязаниям на итоговую оценку, замирают в ожидании вопросов, а учитель объявляет…, что вопросов не будет и сразу готов поставить заказанные отметки. Таким образом, эта игра может выполнять релаксационную функ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7740720" y="6165720"/>
            <a:ext cx="1079280" cy="358920"/>
          </a:xfrm>
          <a:prstGeom prst="leftArrow">
            <a:avLst>
              <a:gd name="adj1" fmla="val 50000"/>
              <a:gd name="adj2" fmla="val 751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«Ко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800" spc="-1" strike="noStrike">
                <a:solidFill>
                  <a:srgbClr val="ffccff"/>
                </a:solidFill>
                <a:latin typeface="Calibri"/>
              </a:rPr>
              <a:t>( 6 класс, тема «Сложение чисел с разными знаками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Игра – индивидуальная. Каждый ученик получает таблицу, накрытую калькой и «коня» (им может быть картонный кружочек). Играющему нужно провести «коня» от линии старта к линии финиша. Ход можно начать с любого места на старте. «Конь» двигается так, как на шахматной доске. Но здесь надо соблюдать условие: число, записанное в клетке старта или там, где стоит «конь» сложенное с числом из клетки, где «конь» делает поворот, должно дать число, которое записано в клетке куда «прыгает» «конь». Некоторые клетки  могут оказаться «фальстартом». На кальке показать ход «кон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ject 4" descr=""/>
          <p:cNvPicPr/>
          <p:nvPr/>
        </p:nvPicPr>
        <p:blipFill>
          <a:blip r:embed="rId1"/>
          <a:stretch/>
        </p:blipFill>
        <p:spPr>
          <a:xfrm>
            <a:off x="1260360" y="4221000"/>
            <a:ext cx="6189840" cy="2303640"/>
          </a:xfrm>
          <a:prstGeom prst="rect">
            <a:avLst/>
          </a:prstGeom>
          <a:ln w="9360">
            <a:solidFill>
              <a:srgbClr val="00006a"/>
            </a:solidFill>
            <a:miter/>
          </a:ln>
        </p:spPr>
      </p:pic>
      <p:sp>
        <p:nvSpPr>
          <p:cNvPr id="192" name="Line 7"/>
          <p:cNvSpPr/>
          <p:nvPr/>
        </p:nvSpPr>
        <p:spPr>
          <a:xfrm>
            <a:off x="1476360" y="4221000"/>
            <a:ext cx="0" cy="230364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2268360" y="4221000"/>
            <a:ext cx="0" cy="223236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3059280" y="4221000"/>
            <a:ext cx="0" cy="230364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3780000" y="4221000"/>
            <a:ext cx="0" cy="230364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6732720" y="4221000"/>
            <a:ext cx="0" cy="230364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971640" y="5734080"/>
            <a:ext cx="6769080" cy="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971640" y="6093000"/>
            <a:ext cx="6769080" cy="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2916360" y="5660640"/>
            <a:ext cx="0" cy="64764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1618920" y="5661000"/>
            <a:ext cx="1297080" cy="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 flipV="1">
            <a:off x="1619280" y="4941720"/>
            <a:ext cx="0" cy="71928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 flipH="1">
            <a:off x="1332000" y="4941720"/>
            <a:ext cx="287280" cy="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1332000" y="4437000"/>
            <a:ext cx="0" cy="50472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1332000" y="4437000"/>
            <a:ext cx="647640" cy="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7885080" y="6237360"/>
            <a:ext cx="1079640" cy="358560"/>
          </a:xfrm>
          <a:prstGeom prst="leftArrow">
            <a:avLst>
              <a:gd name="adj1" fmla="val 50000"/>
              <a:gd name="adj2" fmla="val 752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9900"/>
                </a:solidFill>
                <a:latin typeface="Calibri"/>
              </a:rPr>
              <a:t>«Пасьянс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ffccff"/>
                </a:solidFill>
                <a:latin typeface="Calibri"/>
              </a:rPr>
              <a:t>(8 класс, тема: «Неполные квадратные уравнения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Пасьянс содержит 20 карточек, на которых написано 10 уравнений и ответов к ним (уравнения - на одной карточке, ответы - на другой). Эти карточки раскладываются в 4 ряда по 5 карточек в каждом ряду. Карточки можно брать по 2 либо по вертикали, либо по горизонтали. Каждая пара считается удачей, если она составляет верное реш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                               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Удачные п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Object 4" descr=""/>
          <p:cNvPicPr/>
          <p:nvPr/>
        </p:nvPicPr>
        <p:blipFill>
          <a:blip r:embed="rId1"/>
          <a:stretch/>
        </p:blipFill>
        <p:spPr>
          <a:xfrm>
            <a:off x="2498760" y="3068640"/>
            <a:ext cx="3578040" cy="187308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6" descr=""/>
          <p:cNvPicPr/>
          <p:nvPr/>
        </p:nvPicPr>
        <p:blipFill>
          <a:blip r:embed="rId2"/>
          <a:stretch/>
        </p:blipFill>
        <p:spPr>
          <a:xfrm>
            <a:off x="1187280" y="5445000"/>
            <a:ext cx="1791000" cy="1038240"/>
          </a:xfrm>
          <a:prstGeom prst="rect">
            <a:avLst/>
          </a:prstGeom>
          <a:ln w="0">
            <a:noFill/>
          </a:ln>
        </p:spPr>
      </p:pic>
      <p:pic>
        <p:nvPicPr>
          <p:cNvPr id="210" name="Object 8" descr=""/>
          <p:cNvPicPr/>
          <p:nvPr/>
        </p:nvPicPr>
        <p:blipFill>
          <a:blip r:embed="rId3"/>
          <a:stretch/>
        </p:blipFill>
        <p:spPr>
          <a:xfrm>
            <a:off x="5867280" y="5445000"/>
            <a:ext cx="1533600" cy="100836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2987640" y="3068640"/>
            <a:ext cx="0" cy="187308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788000" y="3068640"/>
            <a:ext cx="0" cy="1873080"/>
          </a:xfrm>
          <a:prstGeom prst="line">
            <a:avLst/>
          </a:prstGeom>
          <a:ln w="936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7885080" y="6237360"/>
            <a:ext cx="1079640" cy="358560"/>
          </a:xfrm>
          <a:prstGeom prst="leftArrow">
            <a:avLst>
              <a:gd name="adj1" fmla="val 50000"/>
              <a:gd name="adj2" fmla="val 752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Графики функций - послов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1844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На этапе «домашнее задание» использую игровую ситуаци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«графики функций - пословицы» </a:t>
            </a:r>
            <a:r>
              <a:rPr b="1" lang="ru-RU" sz="1400" spc="-1" strike="noStrike">
                <a:solidFill>
                  <a:srgbClr val="cc0066"/>
                </a:solidFill>
                <a:latin typeface="Calibri"/>
              </a:rPr>
              <a:t>для 11 класс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Calibri"/>
              </a:rPr>
              <a:t>« Тригонометрические функции».</a:t>
            </a: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 Ведь пословицы – отраж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устойчивых закономерностей, выверенных многолетним опыт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народа. Аналогия с пословицами помогает учащимся лучше понять 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запомнить характерные свойства функций. Задание учащимся: для данных функций найти подходящие пословицы, поговор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1.«Повторение – мать учения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«Выше меры конь не скач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2. "Любишь с горы кататьс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люби и саночки возить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Calibri"/>
              </a:rPr>
              <a:t>7 класс, тема « Функция у =</a:t>
            </a:r>
            <a:r>
              <a:rPr b="1" lang="en-US" sz="1400" spc="-1" strike="noStrike">
                <a:solidFill>
                  <a:srgbClr val="cc0066"/>
                </a:solidFill>
                <a:latin typeface="Calibri"/>
              </a:rPr>
              <a:t>kx</a:t>
            </a:r>
            <a:r>
              <a:rPr b="1" lang="ru-RU" sz="1400" spc="-1" strike="noStrike">
                <a:solidFill>
                  <a:srgbClr val="cc0066"/>
                </a:solidFill>
                <a:latin typeface="Calibri"/>
              </a:rPr>
              <a:t> и ее граф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a"/>
                </a:solidFill>
                <a:latin typeface="Calibri"/>
              </a:rPr>
              <a:t>3. «Как аукнется, так и откликнется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Object 4" descr=""/>
          <p:cNvPicPr/>
          <p:nvPr/>
        </p:nvPicPr>
        <p:blipFill>
          <a:blip r:embed="rId1"/>
          <a:stretch/>
        </p:blipFill>
        <p:spPr>
          <a:xfrm>
            <a:off x="4811760" y="2492280"/>
            <a:ext cx="1465200" cy="113508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6" descr=""/>
          <p:cNvPicPr/>
          <p:nvPr/>
        </p:nvPicPr>
        <p:blipFill>
          <a:blip r:embed="rId2"/>
          <a:stretch/>
        </p:blipFill>
        <p:spPr>
          <a:xfrm>
            <a:off x="4827600" y="5084640"/>
            <a:ext cx="1525680" cy="115272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8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2158920" cy="10875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9"/>
          <p:cNvSpPr/>
          <p:nvPr/>
        </p:nvSpPr>
        <p:spPr>
          <a:xfrm>
            <a:off x="7740720" y="6165720"/>
            <a:ext cx="1079280" cy="358920"/>
          </a:xfrm>
          <a:prstGeom prst="leftArrow">
            <a:avLst>
              <a:gd name="adj1" fmla="val 50000"/>
              <a:gd name="adj2" fmla="val 751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khive"/>
              </a:rPr>
              <a:t>Игра как эффективная форма развития познавательного интереса учащихся к математике</a:t>
            </a:r>
            <a:r>
              <a:rPr b="0" lang="ru-RU" sz="4000" spc="-1" strike="noStrike">
                <a:solidFill>
                  <a:srgbClr val="ffccff"/>
                </a:solidFill>
                <a:latin typeface="Arkhive"/>
              </a:rPr>
              <a:t>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Arkhive"/>
              </a:rPr>
              <a:t>               </a:t>
            </a:r>
            <a:r>
              <a:rPr b="0" lang="ru-RU" sz="1600" spc="-1" strike="noStrike">
                <a:solidFill>
                  <a:srgbClr val="0066ff"/>
                </a:solidFill>
                <a:latin typeface="Arkhive"/>
              </a:rPr>
              <a:t>Работу выполнила: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khive"/>
              </a:rPr>
              <a:t>                                           учитель МБОУ СШ №10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khive"/>
              </a:rPr>
              <a:t>                                      г.Бор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khive"/>
              </a:rPr>
              <a:t>                                               Кормич Татьяна Васильевна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84360" y="6772320"/>
            <a:ext cx="50403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66ff"/>
              </a:solidFill>
              <a:latin typeface="Arkhiv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Игра- это искра, зажигающая огоне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пытливости и любознательности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В.А. 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412640"/>
            <a:ext cx="88930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Calibri"/>
              </a:rPr>
              <a:t>Главная идея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Может ли  игра являться эффективной формой развития познавательного интереса учащихся к математи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Calibri"/>
              </a:rPr>
              <a:t>Признаки учебной игры, предложенные В.М. Букатовы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Дидактическая цель ставиться перед учащимися в форме игров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Учебная деятельность подчиняется правилам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Учебный материал используется в качестве средства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Успешное выполнение задания связывается с игровым результа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Calibri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Увеличение умственной нагрузки заставляет задуматься над тем, как поддержать интерес учащихся к изучаемому материалу, их активность на протяжении все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Взаимозависимость всех разделов предмета, нетерпимость к пробелам, как в целом, так и в частях является причиной неуспехов учащихся в обу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Однообразная деятельность, рассчитанная на механическое запоминание, не может вызвать интереса. Отсутствие положительных эмоций может привести к пассив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alibri"/>
              </a:rPr>
              <a:t>Математические игры разнообразны, требу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alibri"/>
              </a:rPr>
              <a:t>самостоятельности, эмоционально насыщ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40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Calibri"/>
              </a:rPr>
              <a:t>Цель работы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Обосновать целесообразность игр на разных этапах изучения математическ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1.Определить  цели, задачи и функции математической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2. Рассмотреть виды математических иг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3. Показать, как учебный материал можно использовать в качестве средств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164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М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а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т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е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м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а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т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и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ч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е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с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к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а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я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и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г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р</a:t>
            </a:r>
            <a:br>
              <a:rPr sz="2000"/>
            </a:br>
            <a:r>
              <a:rPr b="1" i="1" lang="ru-RU" sz="2000" spc="-1" strike="noStrike">
                <a:solidFill>
                  <a:srgbClr val="cc0066"/>
                </a:solidFill>
                <a:latin typeface="Ben Hard Life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333000"/>
            <a:ext cx="702000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Calibri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развитие мышления; углубление теоретическ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знаний; самоопределение в мире увлечений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рофессий; воспитание сотрудничества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коллективизма; развитие  волевых качес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риобретение новых знаний, умений и навык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Формирование адекватной самооценки; 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знаний; мотивация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образовательные, развивающи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воспитатель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Calibri"/>
              </a:rPr>
              <a:t>Функци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обучающая, развлекательн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коммуникативная, релаксационна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0"/>
          <p:cNvSpPr/>
          <p:nvPr/>
        </p:nvSpPr>
        <p:spPr>
          <a:xfrm flipV="1">
            <a:off x="971640" y="4507920"/>
            <a:ext cx="1079280" cy="144360"/>
          </a:xfrm>
          <a:prstGeom prst="rightArrow">
            <a:avLst>
              <a:gd name="adj1" fmla="val 0"/>
              <a:gd name="adj2" fmla="val 747630"/>
            </a:avLst>
          </a:prstGeom>
          <a:solidFill>
            <a:srgbClr val="cc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flipV="1">
            <a:off x="971640" y="475200"/>
            <a:ext cx="1079280" cy="144360"/>
          </a:xfrm>
          <a:prstGeom prst="rightArrow">
            <a:avLst>
              <a:gd name="adj1" fmla="val 0"/>
              <a:gd name="adj2" fmla="val 747630"/>
            </a:avLst>
          </a:prstGeom>
          <a:solidFill>
            <a:srgbClr val="cc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flipV="1">
            <a:off x="971640" y="3500280"/>
            <a:ext cx="1079280" cy="144720"/>
          </a:xfrm>
          <a:prstGeom prst="rightArrow">
            <a:avLst>
              <a:gd name="adj1" fmla="val 0"/>
              <a:gd name="adj2" fmla="val 745771"/>
            </a:avLst>
          </a:prstGeom>
          <a:solidFill>
            <a:srgbClr val="cc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2900" spc="-1" strike="noStrike">
                <a:solidFill>
                  <a:srgbClr val="ff9900"/>
                </a:solidFill>
                <a:latin typeface="Calibri"/>
              </a:rPr>
              <a:t>Виды математических иг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развивающие                                                                воспитыва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занимательные                                                              контролирующ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коллективные                                                                       индивидуа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2556000" y="3213000"/>
            <a:ext cx="324000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Arial"/>
              </a:rPr>
              <a:t>По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 rot="16200000">
            <a:off x="3816360" y="2745000"/>
            <a:ext cx="504720" cy="288720"/>
          </a:xfrm>
          <a:prstGeom prst="rightArrow">
            <a:avLst>
              <a:gd name="adj1" fmla="val 50000"/>
              <a:gd name="adj2" fmla="val 4370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 rot="19192200">
            <a:off x="5651640" y="3141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1524000">
            <a:off x="5580000" y="386028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6"/>
          <p:cNvSpPr/>
          <p:nvPr/>
        </p:nvSpPr>
        <p:spPr>
          <a:xfrm rot="9363000">
            <a:off x="2267640" y="386028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 rot="12993600">
            <a:off x="2339640" y="3141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2556000" y="4941720"/>
            <a:ext cx="324000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Arial"/>
              </a:rPr>
              <a:t>По массо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0"/>
          <p:cNvSpPr/>
          <p:nvPr/>
        </p:nvSpPr>
        <p:spPr>
          <a:xfrm rot="9363000">
            <a:off x="1922040" y="566100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2"/>
          <p:cNvSpPr/>
          <p:nvPr/>
        </p:nvSpPr>
        <p:spPr>
          <a:xfrm rot="1524000">
            <a:off x="5508720" y="5661000"/>
            <a:ext cx="792000" cy="285840"/>
          </a:xfrm>
          <a:prstGeom prst="rightArrow">
            <a:avLst>
              <a:gd name="adj1" fmla="val 50000"/>
              <a:gd name="adj2" fmla="val 6927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Calibri"/>
              </a:rPr>
              <a:t>Применение игр на различных этапах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1600200"/>
          <a:ext cx="8291520" cy="437832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2057400"/>
                <a:gridCol w="2057400"/>
              </a:tblGrid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Для актив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Для проверки знаний, умений и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Для закрепления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Для домашнего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«Мух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тематический лабирин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нь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рафики функций - пословиц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ото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сьянс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сс-антипресс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9900"/>
                </a:solidFill>
                <a:latin typeface="Calibri"/>
              </a:rPr>
              <a:t>Результативность применения игровых технолог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135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Диаграмма качества обучения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в 8 «А» и 8 «В» классах пос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проведения самостоятельной работы по теме «Непол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квадратные уравнения» с применением игры «Пасьянс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Диаграмма по анкетированию</a:t>
            </a:r>
            <a:r>
              <a:rPr b="1" lang="ru-RU" sz="1800" spc="-1" strike="noStrike">
                <a:solidFill>
                  <a:srgbClr val="00006a"/>
                </a:solidFill>
                <a:latin typeface="Calibri"/>
              </a:rPr>
              <a:t> учащихся 8 «А» и 8 «В» классов (всего 48 челове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4038840" cy="1996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ject 6" descr=""/>
          <p:cNvPicPr/>
          <p:nvPr/>
        </p:nvPicPr>
        <p:blipFill>
          <a:blip r:embed="rId2"/>
          <a:stretch/>
        </p:blipFill>
        <p:spPr>
          <a:xfrm>
            <a:off x="0" y="4781520"/>
            <a:ext cx="3924360" cy="2076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8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3529080" cy="169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36:59Z</dcterms:created>
  <dc:creator>User</dc:creator>
  <dc:description/>
  <dc:language>en-US</dc:language>
  <cp:lastModifiedBy>Екатерина</cp:lastModifiedBy>
  <dcterms:modified xsi:type="dcterms:W3CDTF">2019-10-31T19:41:5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50000000000010250300207f7000400038000</vt:lpwstr>
  </property>
</Properties>
</file>